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CE1-1BEE-4661-877F-EA2C73EE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1F8-78A7-49A2-A900-AE69DB7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3FD-4A26-4366-91B2-54C8D4F5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45B-7EE5-4D45-91B0-133563A9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60A-B733-448F-ACED-BE651970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7E9-DBDD-434F-8E41-13822E9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447-D201-4CE2-AF94-79FF4DBB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27B-4BAC-4B06-A6C6-D711BE26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916-B480-4CA1-A0AB-21D5C01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47C-AA43-46BC-B5B7-BDB04608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323-D27A-4933-B376-3D80E3B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ADC-C6A1-4EAA-BDAD-E1D9412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8455-03D9-4F1A-9B83-4165AF522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/01/201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 очищены от наледи пешеходные зоны на территории стоянки у кафе «Парк» в д.Шараи ООО «Ориентир-Интернациональ», не применяются противогололедные сре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User\Мои документы\Мониторинг\Придорожный сервис\Фото 22.01.19\DSC_0215.jpg"/>
          <p:cNvPicPr/>
          <p:nvPr/>
        </p:nvPicPr>
        <p:blipFill>
          <a:blip r:embed="rId1"/>
          <a:stretch/>
        </p:blipFill>
        <p:spPr>
          <a:xfrm>
            <a:off x="1403280" y="1600200"/>
            <a:ext cx="640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01.2019г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ритория рынка в г.Воложине не обработана противогололедными средствами, не расчищена от  нале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F:\Фото 24.01.19\102DICAM\DSCI312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26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очные пункты а.г.Раков, ул.Минская филиал КУП «Минскоблдорстрой»- ДРСУ №167, 22.01.201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1640" y="1545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457200" y="2185920"/>
            <a:ext cx="4040280" cy="347976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4" descr=""/>
          <p:cNvPicPr/>
          <p:nvPr/>
        </p:nvPicPr>
        <p:blipFill>
          <a:blip r:embed="rId2"/>
          <a:stretch/>
        </p:blipFill>
        <p:spPr>
          <a:xfrm>
            <a:off x="4572000" y="2208240"/>
            <a:ext cx="4041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«Воложинская ЦРБ» общежитие ул.М.Горького,16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1.201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ы от снега  пешеходная зон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ы от снега  и наледи ступеньки и крыльцо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2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А №123 Воложин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  18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6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чистки 19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 «Галактика-Трейд-Плюс», магазин «Витязь» г.Волож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, частично замусорена 18.01.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6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а от наледи и мусора 19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СК «Молодость» территория жилого дома по ул.Ленина г.п.Ивенец 23.01.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наледи пешеходная зона, не очищена от твердых отходов  у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Судниковский» жилой дом ул.Молодежная,9 д.Судники, 23.01.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чищена от снега и  наледи пешеходная зона, не очищена у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6:25:15Z</dcterms:created>
  <dc:creator>Пользователь</dc:creator>
  <dc:description/>
  <dc:language>en-US</dc:language>
  <cp:lastModifiedBy>DariaChonyak</cp:lastModifiedBy>
  <cp:lastPrinted>2019-01-25T05:25:45Z</cp:lastPrinted>
  <dcterms:modified xsi:type="dcterms:W3CDTF">2019-01-25T06:54:02Z</dcterms:modified>
  <cp:revision>31</cp:revision>
  <dc:subject/>
  <dc:title>Слайд 1</dc:title>
</cp:coreProperties>
</file>