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DBD-8E1E-4941-97D7-3A561A2D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986-80A7-4E38-889E-E44E71F7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41E-88EF-4DB8-A496-12CBF548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3D4-867C-423E-941F-650F3059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D51-E7FA-4D4D-AD7B-1AD28D2A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BB4-6D20-4F65-853D-64347809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4AE-F4FD-430F-91C5-5B83EB3C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761-65B2-4FAF-B56B-BF00E1F7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9F9-2909-4A6A-ACFF-94D1FE38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9AE-463D-4E24-822E-2FE36B5A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EED-9259-44AC-9641-0DFF1566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433-1DEE-4B41-BF6E-EC4A5A3C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E2AD-1E27-41CF-9425-9FBA3CB2C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Диаграмма 1" descr=""/>
          <p:cNvPicPr/>
          <p:nvPr/>
        </p:nvPicPr>
        <p:blipFill>
          <a:blip r:embed="rId1"/>
          <a:stretch/>
        </p:blipFill>
        <p:spPr>
          <a:xfrm>
            <a:off x="73080" y="639720"/>
            <a:ext cx="9070920" cy="4505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500120" y="214200"/>
            <a:ext cx="70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роста численности населения Мин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105120"/>
            <a:ext cx="914400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8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Внешняя торговля сельскохозяйственной продукцией и продовольстви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арусь активно включается в систему международного разделения труда и занимает весомое место в мировом рейтинге по производству и торговле продовольствием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а страна, занимая 25-е место в мировых объемах производства молока и молокопродуктов, вышла на 8-е место в экспорте. Наиболее высокий рейтинг республика имеет по производству и экспорту льноволокна – 2-е и 3-е места соответственно. Также Беларусь входит в 20 стран-экспортеров мяса, сахара и масла рапсового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 2016 году экспорт белорусской сельскохозяйственной продукции и продуктов питания (без учета табака и табачных изделий) составил 4,2 млрд. долл. США (увеличился в 1,2 раза по отношению к уровню 2010 года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январь – октябрь 2017 г. экспорт сельскохозяйственной продукции и продуктов питания составил 4,1 млрд. долл. США</a:t>
            </a:r>
            <a:r>
              <a:rPr b="0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 (увеличился на 18% к соответствующему периоду 2016 года, удельный вес в общем объеме экспорта товаров Республики Беларусь достиг 17,7%). При этом молока и молокопродуктов экспортировано на сумму 1,8 млрд. долл. США (на 24% превысило объемы экспорта в январе – октябре 2016 г.), мяса и мясопродуктов – на 738 млн. долл. США (на 11%). </a:t>
            </a:r>
            <a:r>
              <a:rPr b="0" i="1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инской области экспорт молока составил 277,3 млн. долл. США, мясной продукции – 46,9 млн. долл. СШ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17 году Республика Беларусь поставляла сельскохозяйственную продукцию и продукты питания более чем в 80 стран мира</a:t>
            </a:r>
            <a:r>
              <a:rPr b="0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(помимо стран ЕАЭС также на рынки Азии, Африки, Ближнего Востока, Южной и Северной Америки)</a:t>
            </a:r>
            <a:r>
              <a:rPr b="0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 том числе молочную – в 45, мясную – в 19 государств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орт агропродовольственных товаров обеспечивает более 8% ВВП Республики Беларусь и свыше 15% совокупного экспорта страны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8728200" y="0"/>
            <a:ext cx="4122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Диаграмма 1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645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214200" y="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роста численности населения Республики Белар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2080080" y="25718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80,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Диаграмма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8842320" y="0"/>
            <a:ext cx="3016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оизводства основных видов сельскохозяйственной продукции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ушу населения в 2016 году  в Республике Белар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Диаграмма 2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4359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Диаграмма 1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4505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204920" y="214200"/>
            <a:ext cx="70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стран мира по критерию доступности продоволь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2500200" y="785880"/>
            <a:ext cx="0" cy="2571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5143680" y="785880"/>
            <a:ext cx="0" cy="2571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9"/>
          <p:cNvSpPr/>
          <p:nvPr/>
        </p:nvSpPr>
        <p:spPr>
          <a:xfrm>
            <a:off x="6929280" y="785880"/>
            <a:ext cx="0" cy="2571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722880" y="15001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ая сре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7500960" y="107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14200" y="3384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ждународные оценки уровня продовольственной безопасности в Республике Белару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85840" y="35712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ритерию наличия недоедающего насел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 Беларусь относится к категории стран с «очень низким удельным весом недоедающего населения в общей численности»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5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ритерию доступности продовольств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арактеризует экономическую доступность продуктов питания, уязвимость населения к влиянию роста цен, наличие программ поддержки потребителей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6 год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рус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има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6-е мес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113 стра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статочности продовольствия на внутреннем рын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меряются достаточность и стабильность поставок на внутренний рынок, национальный производственный потенциал и меры государственной поддержки необходимых исследований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русь находится на 52-м мес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113 стра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казателям качества и безопасности питания 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цениваются разнообразие и пищевая ценность рациона, безопасность сельскохозяйственной продукции и продовольствия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русь занимает 39-ю позиц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113 стра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142920" y="380520"/>
            <a:ext cx="9001080" cy="43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СЛЕДНИЕ ТРИ ГОДА В НАШЕЙ СТРАНЕ ПРИНЯТ РЯД НОРМАТИВНЫХ ПРАВОВЫХ АКТОВ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ЯЮЩИХ БАЗОВЫЕ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УНКЦИОНИРОВАНИЯ СУБЪЕКТОВ ХОЗЯЙСТВОВАНИЯ В АП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Изданы указы Президента Республики Беларус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17 июля 2014 г. № 347 «О государственной аграрной политик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17 июля 2014 г. № 348 «О мерах по повышению эффективности работы организаций агропромышлен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лекса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17 июля 2014 г. № 349 «О реорганизации колхозов (СПК)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17 июля 2014 г. № 350 «Об особенностях поставки сельскохозяйственной продукции для республиканских государственных нужд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23 марта 2016 г. № 106 «О государственных программах и оказании государственной финансовой поддержки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4 июля 2016 г. № 253 «О мерах по финансовому оздоровлению сельскохозяйственных организаций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14 июля 2016 г. № 268 «О создании и деятельности открытого акционерного общества «Агентство по управлению активами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805040" y="142920"/>
            <a:ext cx="61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стьянские фермерские и личные подсобные хозя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ом производ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Диаграмма 4" descr=""/>
          <p:cNvPicPr/>
          <p:nvPr/>
        </p:nvPicPr>
        <p:blipFill>
          <a:blip r:embed="rId1"/>
          <a:stretch/>
        </p:blipFill>
        <p:spPr>
          <a:xfrm>
            <a:off x="0" y="858960"/>
            <a:ext cx="893124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214200" y="58680"/>
            <a:ext cx="8572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16 году принят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ая программа развития аграрного бизнеса в Республике Беларусь на 2016 – 2020 год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(далее – Государственная программа). В ее рамках предполагается реализация 12 подпрограмм, в которых определены мероприятия, сроки их реализации, объемы и источники финансирования с разбивкой по задачам, заказчикам и годам реал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программа 10 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поддержка малых форм хозяйствования» Государственной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авлена на создание условий для развития и поддержки малых форм хозяйствования в сельском хозяйстве, к которым относятся и представители малого агробизнеса – крестьянские (фермерские) хозяй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рмерские хозяйства участвуют в реализации мероприятий не только подпрограммы 10, но и в реализации мероприятий других подпрограмм Государственной программы наравне с иными субъектами хозяйств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тадии реализации находи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дополнительных мероприятий по развитию и поддержке крестьянских (фермерских) хозяйств на 2016 – 2020 год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ющий предоставление фермерским хозяйствам земельных участков для ведения сельского хозяйства, участие фермерских хозяйств и их объединений (ассоциаций, союзов) в реализации проектов международной технической помощи, иностранной безвозмездной помощи и другие мероприя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подпрограммы 10 такж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ся выплата надбавок к закупочным ценам на сельскохозяйственную продукцию, закупаемую у насел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иды субсидируемой продукции и размеры надбавок ежегодно определяются Минсельхозпродом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38196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программы 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беспечение общих условий функционирования агропромышленного комплекса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уществляет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лата ежемесячных доплат к заработной плате молодым специалиста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соответствии с Указом Президента Республики Беларусь от 12 августа 2013 г. № 353 «О некоторых мерах по обеспечению организаций агропромышленного комплекса кадрами». Выплаты производятся работникам, отработавшим в организациях АПК два года по распределению, в течение последующих трех лет в трехкратном размере тарифной ставки первого разря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бсидирование деятельности непосредственно субъектов АП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лючая предоставление прямых выплат в виде надбавок на единицу сельскохозяйственно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дбавки выплачиваются всем сельхозорганизация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иды продукции и размеры надбавок ежегодно определяются Правительством. В пределах имеющихся средств в местных бюджетах местные органы власти вправе увеличивать размер надбавок и (или) производить дифференциацию размеров надбавок в зависимости от кадастровой оценки сельскохозяйственных земель сельскохозяйственного назначения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бсидии на осуществление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язанной с производством сельскохозяйственной продукции, предоставляются на закупку удобрений, семян сельскохозяйственных растений, средств защиты растений, нефтепродуктов, запасных частей и других товаров, работ (услуг), связанных с производством сельскохозяйственной продукции, включая погашение задолженности за н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2T06:19:19Z</dcterms:created>
  <dc:creator>User</dc:creator>
  <dc:description/>
  <dc:language>en-US</dc:language>
  <cp:lastModifiedBy>Serg</cp:lastModifiedBy>
  <dcterms:modified xsi:type="dcterms:W3CDTF">2018-01-17T11:08:37Z</dcterms:modified>
  <cp:revision>43</cp:revision>
  <dc:subject/>
  <dc:title>Слайд 1</dc:title>
</cp:coreProperties>
</file>