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9EF-0258-4E60-B0ED-6FB25281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487-FA46-4176-BDB2-1B3E97F9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E22-9E61-4300-B89E-004215CA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E98-A0C6-486C-9F7D-B4C44CED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F5B-BA9A-4A7F-B4CA-61B0ACA5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461-C93A-44E0-B795-CC430C5E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D6F-CC15-4D48-A568-7D72AAF7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183-8CF3-4373-90DE-A8C69C5E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F2B-6845-4D7E-A792-27C254AE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5D9-0878-474E-957F-3EE6F156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734D-E58A-4B96-9E0E-8FAE620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A15-0C09-493F-8ACE-A69D2EA2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8040-FC51-4F56-9608-E8A74D18A0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928800" y="928800"/>
            <a:ext cx="7643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дминистративная процедура № 1.1.10</a:t>
            </a:r>
            <a:br>
              <a:rPr sz="5400"/>
            </a:b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Принятие решения об индексации чеков «Жилье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28400" y="713880"/>
            <a:ext cx="8358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c00000"/>
                </a:solidFill>
                <a:uFillTx/>
                <a:latin typeface="Calibri"/>
              </a:rPr>
              <a:t>Наименование структурного подразделения, выполняющего административную процедуру</a:t>
            </a:r>
            <a:r>
              <a:rPr b="1" lang="ru-RU" sz="31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3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Служба «одно окно» Воложинского райисполкома,            г. Воложин, пл.Свободы, 2, каб.102,  тел.57-3-31;  бесплатный номер  142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Calibri"/>
              </a:rPr>
              <a:t>Режим работы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Понедельник, вторник, четверг, пятница    8.00 – 17.0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Среда  8.00 – 20.0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Перерыв на обед     13.00 – 14.0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Каждая четвертая суббота месяца  9.00 – 13.0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Calibri"/>
              </a:rPr>
              <a:t>Специалисты- </a:t>
            </a: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Литвин Тамара Георгиев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Василевская Олеся Юрьев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ументы  и (или) сведения, представляемые гражданином для осуществления административной процедур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явл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спорт или иной документ, удостоверяющий лич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ки «Жилье» с выпиской из специального (чекового) счета</a:t>
            </a:r>
            <a:br>
              <a:rPr sz="1100"/>
            </a:b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видетельство о праве на наследство либо копия решения суда - в случае, если чеки «Жилье» были получены по наследству или решению суда</a:t>
            </a:r>
            <a:br>
              <a:rPr sz="1100"/>
            </a:b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говор дарения - в случае, если чеки «Жилье» были получены по договору дарени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ектно-сметная документация на строительство (реконструкцию) жилого дома, документы, подтверждающие стоимость приобретенных стройматериалов в ценах, действующих на момент обращения, - в случае строительства (реконструкции) одноквартирного, блокированного жилого д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равка о задолженности по строительству на момент обращения, выдаваемая организацией застройщиков или застройщиком, - в случае строительства жилых помещений в составе организации застройщиков, в порядке долевого участия в жилищном строительстве, по договорам создания объектов долевого строительства или по иным договорам, предусматривающим строительство жилых помещени</a:t>
            </a:r>
            <a:r>
              <a:rPr b="1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й</a:t>
            </a:r>
            <a:br>
              <a:rPr sz="1100"/>
            </a:b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говор купли-продажи жилого помещения - в случае приобретения жилого помещения путем покуп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ументы и (или) сведения, запрашиваемые государственным орган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равка о состоянии на учете нуждающихся в улучшении жилищных услов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равка о начисленной жилищной квот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равка о задолженности по возврату креди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ведения о дате ввода дома в эксплуатацию – при погашении задолженности по кредитам (ссудам), взятым и использованным для уплаты паевого взноса в жилищном или жилищно-строительном кооперативе, финансирования индивидуального строительства, реконструкции одноквартирных, блокированных жилых домов, долевого участия в жилищном строительстве, приобретения жилья путем покупки после ввода дома в эксплуатаци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Размер платы, взимаемой при осуществлении административной процедуры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еспла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av-_143"/>
          <p:cNvPicPr/>
          <p:nvPr/>
        </p:nvPicPr>
        <p:blipFill>
          <a:blip r:embed="rId1"/>
          <a:stretch/>
        </p:blipFill>
        <p:spPr>
          <a:xfrm>
            <a:off x="3894120" y="2529000"/>
            <a:ext cx="42498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ксимальный срок осуществления административной процедур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 месяц со дня подачи заяв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 действия справки, другого документа (решения), выдаваемых (принимаемого) при осуществлении административной процед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ссроч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7T13:53:08Z</dcterms:created>
  <dc:creator>Admin</dc:creator>
  <dc:description/>
  <dc:language>en-US</dc:language>
  <cp:lastModifiedBy>RePack by Diakov</cp:lastModifiedBy>
  <dcterms:modified xsi:type="dcterms:W3CDTF">2019-01-14T12:35:27Z</dcterms:modified>
  <cp:revision>14</cp:revision>
  <dc:subject/>
  <dc:title>Слайд 1</dc:title>
</cp:coreProperties>
</file>