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54D-6E52-40A9-B1FA-CC00CAB9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7A3-1E0B-4D3E-9978-9DBDC932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2E5-3986-4A22-ABC4-3D2A0CAC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363-EBC0-4C9A-9AE2-6E515ABA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652-8E62-4C86-9179-B472E84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ED5-1954-4EF7-B696-2801E9B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C2C-2943-46FC-9425-D801C48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959-1ED3-43CE-B676-E825FC06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8BD-1874-4A40-B88D-1DC77606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086-E83D-41D4-B5FE-BDA6566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775-A5DB-434D-961C-13E90BE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4B7-26C2-4127-9E04-74D5EAD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3EA8-21DA-4448-819D-AA14D0321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министративная процедура №1.1.21. 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нятие решен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согласовании (разрешении) переустройства и (или) перепланировки жилого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ещения, нежилого помещения в жилом дом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642960" y="750960"/>
            <a:ext cx="81439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Наименование структурного подразделения, выполняющего административную процедуру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: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Служба «одно окно» Воложинского райисполкома,            г. Воложин, пл.Свободы, 2, каб.102,  тел.57-3-31;  бесплатный номер  14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Режим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Понедельник, вторник, четверг, пятница    8.00 – 17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Среда  8.00 – 2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Перерыв на обед     13.00 – 14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Каждая четвертая суббота месяца  9.00 – 13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Специалисты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– Литвин Тамара Георги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Василевская Олеся Ю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ументы  и (или) сведения, представляемые гражданином для осуществления административной процедур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явлени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спорт или иной документ, удостоверяющий личност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исьменное согласие совершеннолетних членов семьи, иных граждан, совместно проживающих с заявителем, имеющих право владения и пользования помещением, переустройство и (или) перепланировка которого инициируется, и участников общей долевой собственности (в случае, если помещение находится в общей собственности двух или более лиц), а в случае временного отсутствия таких граждан и участников – удостоверенное нотариально их письменное согласи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хнический паспорт и документ, подтверждающий право собственности на жилое помещение, - для собственника помеще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-схема или перечень (описание) работ по переустройству и (или) перепланировке помещения, составленный в произвольной форм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исьменное согласие организации застройщиков в жилых домах этой организации - для члена организации застройщиков, не являющегося собственником помещения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ументы и (или) сведения, запрашиваемые государственным орга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справка о занимаемом в данном населенном пункте жилом помещении и составе семь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р платы, взимаемой при осуществлении административной процедур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0,5 базовой велич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олучатель платежа – Главное управление Министерства финансов Республики Беларусь по Минской области (ГУ МФ РБ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УНП 6005372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Расчетный счет №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Y96AKBB3600614000502000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В ОАО «АСБ Беларусбанк» г.Минс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код банка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AKBBBY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ксимальный срок осуществления административной процедур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Calibri"/>
              </a:rPr>
              <a:t>1 месяц со дня подачи заявл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 действия справки, другого документа (решения), выдаваемых (принимаемого) при осуществлении административной процед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alibri"/>
              </a:rPr>
              <a:t>бессро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7:57:44Z</dcterms:created>
  <dc:creator>Admin</dc:creator>
  <dc:description/>
  <dc:language>en-US</dc:language>
  <cp:lastModifiedBy>RePack by Diakov</cp:lastModifiedBy>
  <dcterms:modified xsi:type="dcterms:W3CDTF">2019-01-14T12:35:49Z</dcterms:modified>
  <cp:revision>8</cp:revision>
  <dc:subject/>
  <dc:title>Административная процедура №1.1.21.  «Принятие решения о согласовании (разрешении) переустройства и (или) перепланировки жилого и (или) нежилого помещений»</dc:title>
</cp:coreProperties>
</file>