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480-3368-4E22-A28D-2B6AC140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3BE-F196-44C8-ACCE-0CF0B80E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1B7-E0B4-477A-BFD6-A33B0706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958-B53F-495A-9604-871947DB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999-1992-4A95-AD43-FFCE9B67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ECF-5254-4FA7-A837-45536204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486-DA05-4D89-852D-610C6CCF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3BD-2C41-495D-8652-4DC36262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B7B-7194-4DF0-8487-5490E211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2B1-F0E7-4409-A83F-5B1E4F1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C04-2CB0-4BE0-B3F7-9197042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463-F116-489E-8651-D4F7CD1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0DD-AC61-4257-8A77-127B50AFE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Административная процедура 1.1.5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Принятие решения о постановке на учет (восстановлении  на учете) граждан, нуждающихся в улучшении жилищных услов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женщина"/>
          <p:cNvPicPr/>
          <p:nvPr/>
        </p:nvPicPr>
        <p:blipFill>
          <a:blip r:embed="rId1"/>
          <a:stretch/>
        </p:blipFill>
        <p:spPr>
          <a:xfrm>
            <a:off x="208080" y="2286000"/>
            <a:ext cx="3727440" cy="36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28680" y="1600200"/>
            <a:ext cx="50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700" spc="-1" strike="noStrike" u="sng">
                <a:solidFill>
                  <a:srgbClr val="ff0000"/>
                </a:solidFill>
                <a:uFillTx/>
                <a:latin typeface="Calibri"/>
              </a:rPr>
              <a:t>Наименование структурного подразделения, выполняющего административную процедуру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лужба «одно окно» Воложинского райисполкома, г. Воложин, пл.Свободы, 2, каб.102,  тел.57-3-31;  бесплатный номер  14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Режим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Понедельник, вторник, четверг, пятница – 8.00 – 17.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реда  8.00 – 20.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Перерыв на обед     13.00 – 14.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Каждая четвертая суббота месяца  9.00 – 13.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Специалисты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– Литвин Тамара Георгиевна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-  Василевская Олеся Юр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Документы и (или) сведения, представляемые гражданином для осуществления административной 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заявлени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паспорта  или иные документы, удостоверяющие личность всех совершеннолетних граждан, свидетельства о рождении несовершеннолетних детей, принимаемых на учет нуждающихся в улучшении жилищных у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документы, подтверждающие право на внеочередное или первоочередное предоставление жилого помещения, - в случае наличия такого прав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сведения о доходе и имуществе каждого члена семьи, - в случае постановки на учет (восстановлении на учете) граждан, имеющих право на получение жилого помещения социального пользования в зависимости от дохода и иму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Документы и (или) сведения, запрашиваемые государственным орг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35720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Calibri"/>
              </a:rPr>
              <a:t>справка о занимаемом в данном населенном пункте жилом помещении и составе сем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3333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Calibri"/>
              </a:rPr>
              <a:t>справки о находящихся в собственности гражданина и членов его семьи жилых помещениях в населенном пункте по месту подачи заявления о принятии на учет нуждающихся в улучшении жилищных усл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3333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Calibri"/>
              </a:rPr>
              <a:t>сведения об отсутствии факта постановки на учет нуждающихся в улучшении жилищных условий по месту жительства супруга – в случае его регистрации в другом населенном пункте или районе населенного пун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3333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Calibri"/>
              </a:rPr>
              <a:t>решение местного исполнительного и распорядительного органа о признании занимаемого жилого помещения не соответствующим установленным для проживания санитарным и техническим требованиям – при принятии граждан на учет нуждающихся в улучшении жилищных условий по основанию, предусмотренному в подпункте 3.1.3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, утвержденного Указом Президента Республики Беларусь от 16 декабря 2013 г. № 563 «О некоторых вопросах правового регулирования жилищных отношений» (Национальный правовой Интернет-портал Республики Беларусь, 20.12.2013, 1/14698)</a:t>
            </a:r>
            <a:br>
              <a:rPr sz="2000"/>
            </a:b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6760" y="285480"/>
            <a:ext cx="85726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ff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.    заключение врачебно-консультационной комиссии о наличии у гражданина заболеваний, указанных в перечне, определяемом Министерством здравоохранения Республики Беларусь, при наличии которых признается невозможным его совместное проживание с другими лицами в одной комнате или однокомнатной квартире, – при принятии граждан на учет нуждающихся в улучшении жилищных условий по основанию, предусмотренному в подпункте 3.1.7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6.   справка, содержащая сведения из записи акта о заключении брака, – при принят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       </a:t>
            </a: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граждан на учет нуждающихся в улучшении жилищных условий по основанию, предусмотренному в подпункте 3.1.11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3333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копии документа об образовании и трудового договора (контракта) с трудоустроившей организацией – при принятии граждан на учет нуждающихся в улучшении жилищных условий по основанию, предусмотренному в подпункте 3.2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3333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договор найма жилого помещения – при принятии граждан на учет нуждающихся в улучшении жилищных условий по основаниям, предусмотренным в подпунктах 3.1.4–3.1.6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</a:t>
            </a:r>
            <a:br>
              <a:rPr sz="1700"/>
            </a:b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1384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ff"/>
                </a:solidFill>
                <a:latin typeface="Calibri"/>
              </a:rPr>
              <a:t>9</a:t>
            </a: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.    документы, удостоверяющие отсутствие попечения родителей, сведения о закреплении жилых помещений за детьми-сиротами и детьми, оставшимися без попечения родителей, а также за лицами из числа детей-сирот и детей, оставшихся без попечения родителей, а также сведения о том, что указанные лица не могут быть вселены в закрепленное жилое помещение, из которого выбыли, и невозможность вселения в это жилое помещение установлена местным исполнительным и распорядительным органом по месту нахождения данного жилого помещения, – при принятии граждан на учет нуждающихся в улучшении жилищных условий по основанию, предусмотренному частью первой подпункта 3.3 пункта 3 Положения об учете граждан, нуждающихся в улучшении жилищных условий, и о порядке предоставления жилых помещений государственного жилищного фон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10.сведения о получении (неполучении) льготного кредита, одноразовой субсидии на строительство (реконструкцию) или приобретение жилых помещений в течение пяти лет со дня государственной регистрации права на жилое помещение, построенное (реконструированное) или приобретенное с использованием государственной поддерж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11. копия лицевого счета на жилое помещение, находящееся в собственности гражданина и членов его семьи в населенном пункте по месту принятия на учет и в котором они не проживаю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ff"/>
                </a:solidFill>
                <a:latin typeface="Calibri"/>
              </a:rPr>
              <a:t>12. копия лицевого счета на жилое помещение, которое ранее находилось в собственности гражданина и членов его семьи в населенном пункте по месту принятия на учет и (или) из которого они убыли путем реализации права владения и пользования иным жилым помещением, жилым помещением в общежитии, заключения договора найма жилого помещения частного жилищного фонда со всех мест жительства за последние 5 лет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7375e"/>
                </a:solidFill>
                <a:latin typeface="Arial Black"/>
              </a:rPr>
              <a:t>Размер платы, взимаемой при осуществлении административной процеду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Беспла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99"/>
                </a:solidFill>
                <a:uFillTx/>
                <a:latin typeface="Calibri"/>
              </a:rPr>
              <a:t>Максимальный срок осуществления административной процед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1 месяц со дня подачи за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Calibri"/>
              </a:rPr>
              <a:t>Срок действия справки, другого документа (решения), выдаваемых (принимаемого) при осуществлении административной процеду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бессро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06:46:54Z</dcterms:created>
  <dc:creator>Admin</dc:creator>
  <dc:description/>
  <dc:language>en-US</dc:language>
  <cp:lastModifiedBy>RePack by Diakov</cp:lastModifiedBy>
  <dcterms:modified xsi:type="dcterms:W3CDTF">2019-01-14T12:35:06Z</dcterms:modified>
  <cp:revision>32</cp:revision>
  <dc:subject/>
  <dc:title>Административная процедура 1.1.5.</dc:title>
</cp:coreProperties>
</file>