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F27B-4CFD-4D9F-B7DD-941447A0DD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 для членов информационно-пропагандистских групп (январь 2019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DF3A-480B-405D-9414-1D285E7502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еречисленные на рисунке направления работы не охватывают всего перечня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EB68-AE55-46E4-B106-8AB2158D44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усиленно «проникают» в населенные пунк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3E59-E47F-4CE4-B953-B91E711D37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создания комфортных условий для проживания исчисляются в программе десят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AD27-BCA9-4551-9FFE-9B63943A7E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ий лозунг «Вход свободны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елось бы отметить не только гармоничное сохранение традиций и ремесел, но и новые цифровые технологии, улучшающие жизнь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C1A8-1B2B-436B-8A3A-A22EC25AF0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– главный ресурус инноваций. Руководители, педагоги, дизайнеры и многие друг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B9E9-321B-4B77-A86C-11D3C23FD6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мейной фотографии руководитель группы, восстановившей Т-34, который показан на верхнем сним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DD98-35F0-4C3A-A417-96D3E34EDB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м, возрождаем, Помни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C1E5-502A-41B2-8160-3727B763E9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ую компанию проводят СМИ. Как видим это целая отрасль наше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B08E-1319-4992-9848-4D9D15111A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3C39-C9C8-4B41-93B6-193E4323ED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исание Указа 247 и постановление Правительства №547 позволяет системно в среднесрочной перспективе проводить работу, направленную на расцвет нашей стрна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CBE5-1B66-44A1-ABE2-42A694C051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решения закреплены документ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8761-CA4A-4030-8B06-032DF3ABC8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3EEF-D52C-4376-89EF-2B2A82BDA7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ачала о республик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84A2-2359-4236-87AB-8B075B5910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2AC3-3C48-41D7-ACFE-A9EC95701C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ОЧЕНЬ широкая. Она охватывает практически все сферы жизн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1B6F-6644-4666-882C-A7D440067B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графии показывают, что отходов много, и с ними можно и нужно бороться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74B1-18A3-4C09-A8DC-1B69E9EAAA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пки. Агрогородок Зам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02C8-D4CE-4B5C-8CFE-914980BE07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376-BDFA-469D-B526-6F716499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774-3782-40CF-86B4-37524E70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EC0-6E62-4513-8AFB-A05D49A1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B3C-A6F0-4557-81BB-053DF53C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E5A-4DD4-413E-ABB7-8B31AE65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782-E344-4609-9DF4-36A81A47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C75-1CE0-4C56-A881-FD8BDA21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111-B6A4-4FDF-81A1-7DBEFFB6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783-767B-4746-A07C-127E94DF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6A7-6F13-4E91-9CD4-13CE9FF4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A7DB-09DE-4573-AD78-A6FA0D43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9F3E-C88E-4D5F-AFB2-76388B5F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C7BB-9A4D-4329-AC81-25C0B7F391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3213000"/>
            <a:ext cx="8569080" cy="936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ОЛЬШИЕ ДЕЛА ГОДА МАЛОЙ РОДИНЫ: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ЗНАКОВЫЕ СОБЫТИЯ  2018 Г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МАТЕРИАЛ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для членов информационно-пропагандистских груп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(январь 2019 г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3" descr="GKH_banner"/>
          <p:cNvPicPr/>
          <p:nvPr/>
        </p:nvPicPr>
        <p:blipFill>
          <a:blip r:embed="rId1"/>
          <a:stretch/>
        </p:blipFill>
        <p:spPr>
          <a:xfrm>
            <a:off x="4322880" y="1989000"/>
            <a:ext cx="4479840" cy="1219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www.minsk-region.gov.by/images/gerb/mo.gif"/>
          <p:cNvPicPr/>
          <p:nvPr/>
        </p:nvPicPr>
        <p:blipFill>
          <a:blip r:embed="rId2"/>
          <a:stretch/>
        </p:blipFill>
        <p:spPr>
          <a:xfrm>
            <a:off x="395280" y="189000"/>
            <a:ext cx="187956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myadel.minsk-region.by/uploads/images/22-11-2017-2.png"/>
          <p:cNvPicPr/>
          <p:nvPr/>
        </p:nvPicPr>
        <p:blipFill>
          <a:blip r:embed="rId3"/>
          <a:stretch/>
        </p:blipFill>
        <p:spPr>
          <a:xfrm>
            <a:off x="250920" y="4397400"/>
            <a:ext cx="18000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711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оздание максимально комфортных условий для прожи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179280" y="141300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. Обеспечение безопасности дорожного движения, модернизация и текущие ремонты улиц городов и малых  н.п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179280" y="184464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2. Реконструкция и капитальный ремонт мостов и путепров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5"/>
          <p:cNvSpPr/>
          <p:nvPr/>
        </p:nvSpPr>
        <p:spPr>
          <a:xfrm>
            <a:off x="179280" y="227664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3. Развитие национальной информационно-коммуникационной инфраструктуры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179280" y="270828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4. Строительство распределительных электрических сетей в целях повышения надежности электроснабже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179280" y="350028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6. Реконструкция систем уличного и дорожного освещения с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использованием светодиодной техники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179280" y="3933720"/>
            <a:ext cx="4248360" cy="35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7. Строительство минимально необходимой инженерной и транспортной инфраструктуры к строящимся жилым дома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179280" y="3141720"/>
            <a:ext cx="4248360" cy="358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5. Строительство уличных распределительных газопроводов для газификации жилых домов гражда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10"/>
          <p:cNvSpPr/>
          <p:nvPr/>
        </p:nvSpPr>
        <p:spPr>
          <a:xfrm>
            <a:off x="179280" y="4365720"/>
            <a:ext cx="4248360" cy="358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8. Хранения местных видов топлива в надлежащем техническом и санитарном состояни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179280" y="4797360"/>
            <a:ext cx="4248360" cy="43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9. Поддержание в исправном состоянии входных групп подъездов жилых дом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2"/>
          <p:cNvSpPr/>
          <p:nvPr/>
        </p:nvSpPr>
        <p:spPr>
          <a:xfrm>
            <a:off x="4716360" y="141300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1. Поддержание в безопасном состоянии улично-дорожной сети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3"/>
          <p:cNvSpPr/>
          <p:nvPr/>
        </p:nvSpPr>
        <p:spPr>
          <a:xfrm>
            <a:off x="4716360" y="184464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2. Ремонт, реконструкция объектов вокзальной инфраструктуры и остановочных пунктов БЖ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4"/>
          <p:cNvSpPr/>
          <p:nvPr/>
        </p:nvSpPr>
        <p:spPr>
          <a:xfrm>
            <a:off x="179280" y="530064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0. Восстановление транспортно-эксплуатационных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характеристик местных автомобильных доро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5"/>
          <p:cNvSpPr/>
          <p:nvPr/>
        </p:nvSpPr>
        <p:spPr>
          <a:xfrm>
            <a:off x="4716360" y="400536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7. Обеспечение работы амбулаторий врача общей практики в сельской местности командой специалист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6"/>
          <p:cNvSpPr/>
          <p:nvPr/>
        </p:nvSpPr>
        <p:spPr>
          <a:xfrm>
            <a:off x="4716360" y="357336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6. Создание безбарьерной среды для людей с инвалидностью и пожилых люде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17"/>
          <p:cNvSpPr/>
          <p:nvPr/>
        </p:nvSpPr>
        <p:spPr>
          <a:xfrm>
            <a:off x="4716360" y="443700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8. Ежеквартальный медицинский осмотр инвалидов І группы и лиц старших возрастов врачами общей практик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18"/>
          <p:cNvSpPr/>
          <p:nvPr/>
        </p:nvSpPr>
        <p:spPr>
          <a:xfrm>
            <a:off x="4716360" y="486900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9. Обеспечение 100-процентной диспансеризации населения, проживающего в сельской местности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19"/>
          <p:cNvSpPr/>
          <p:nvPr/>
        </p:nvSpPr>
        <p:spPr>
          <a:xfrm>
            <a:off x="4716360" y="227664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3. Совершенствование процесса перевозки пассажиров ж</a:t>
            </a:r>
            <a:r>
              <a:rPr b="0" lang="en-US" sz="1100" spc="-1" strike="noStrike">
                <a:solidFill>
                  <a:srgbClr val="002060"/>
                </a:solidFill>
                <a:latin typeface="Arial"/>
                <a:ea typeface="Arial"/>
              </a:rPr>
              <a:t>/</a:t>
            </a: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д</a:t>
            </a:r>
            <a:r>
              <a:rPr b="0" lang="en-US" sz="11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транспорто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0"/>
          <p:cNvSpPr/>
          <p:nvPr/>
        </p:nvSpPr>
        <p:spPr>
          <a:xfrm>
            <a:off x="4716360" y="3141720"/>
            <a:ext cx="4248360" cy="358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5. Обеспечение доступности социальных услуг территориальных центров соцобслуживания населе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21"/>
          <p:cNvSpPr/>
          <p:nvPr/>
        </p:nvSpPr>
        <p:spPr>
          <a:xfrm>
            <a:off x="4716360" y="270828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4. Присвоении имен известных белорусских деятелей новым объектам на их малой родин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2"/>
          <p:cNvSpPr/>
          <p:nvPr/>
        </p:nvSpPr>
        <p:spPr>
          <a:xfrm>
            <a:off x="4716360" y="530064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20. Дальнейшее развитие межрайонных медицинских центров и областных специализированных центр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ая соединительная линия 25"/>
          <p:cNvSpPr/>
          <p:nvPr/>
        </p:nvSpPr>
        <p:spPr>
          <a:xfrm>
            <a:off x="4535640" y="826920"/>
            <a:ext cx="36360" cy="46548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ая соединительная линия 29"/>
          <p:cNvSpPr/>
          <p:nvPr/>
        </p:nvSpPr>
        <p:spPr>
          <a:xfrm>
            <a:off x="4427640" y="544500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ая соединительная линия 33"/>
          <p:cNvSpPr/>
          <p:nvPr/>
        </p:nvSpPr>
        <p:spPr>
          <a:xfrm>
            <a:off x="4572000" y="544500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ая соединительная линия 34"/>
          <p:cNvSpPr/>
          <p:nvPr/>
        </p:nvSpPr>
        <p:spPr>
          <a:xfrm>
            <a:off x="4572000" y="508464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35"/>
          <p:cNvSpPr/>
          <p:nvPr/>
        </p:nvSpPr>
        <p:spPr>
          <a:xfrm>
            <a:off x="4427640" y="494172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36"/>
          <p:cNvSpPr/>
          <p:nvPr/>
        </p:nvSpPr>
        <p:spPr>
          <a:xfrm>
            <a:off x="4572000" y="465300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37"/>
          <p:cNvSpPr/>
          <p:nvPr/>
        </p:nvSpPr>
        <p:spPr>
          <a:xfrm>
            <a:off x="4427640" y="414972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38"/>
          <p:cNvSpPr/>
          <p:nvPr/>
        </p:nvSpPr>
        <p:spPr>
          <a:xfrm>
            <a:off x="4427640" y="450864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39"/>
          <p:cNvSpPr/>
          <p:nvPr/>
        </p:nvSpPr>
        <p:spPr>
          <a:xfrm>
            <a:off x="4427640" y="364500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40"/>
          <p:cNvSpPr/>
          <p:nvPr/>
        </p:nvSpPr>
        <p:spPr>
          <a:xfrm>
            <a:off x="4572000" y="378936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ая соединительная линия 41"/>
          <p:cNvSpPr/>
          <p:nvPr/>
        </p:nvSpPr>
        <p:spPr>
          <a:xfrm>
            <a:off x="4572000" y="422100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ая соединительная линия 42"/>
          <p:cNvSpPr/>
          <p:nvPr/>
        </p:nvSpPr>
        <p:spPr>
          <a:xfrm>
            <a:off x="4427640" y="321300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43"/>
          <p:cNvSpPr/>
          <p:nvPr/>
        </p:nvSpPr>
        <p:spPr>
          <a:xfrm>
            <a:off x="4427640" y="299736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44"/>
          <p:cNvSpPr/>
          <p:nvPr/>
        </p:nvSpPr>
        <p:spPr>
          <a:xfrm>
            <a:off x="4572000" y="292428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45"/>
          <p:cNvSpPr/>
          <p:nvPr/>
        </p:nvSpPr>
        <p:spPr>
          <a:xfrm>
            <a:off x="4572000" y="335772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46"/>
          <p:cNvSpPr/>
          <p:nvPr/>
        </p:nvSpPr>
        <p:spPr>
          <a:xfrm>
            <a:off x="4572000" y="242100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ая соединительная линия 47"/>
          <p:cNvSpPr/>
          <p:nvPr/>
        </p:nvSpPr>
        <p:spPr>
          <a:xfrm>
            <a:off x="4427640" y="242100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48"/>
          <p:cNvSpPr/>
          <p:nvPr/>
        </p:nvSpPr>
        <p:spPr>
          <a:xfrm>
            <a:off x="4427640" y="162864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49"/>
          <p:cNvSpPr/>
          <p:nvPr/>
        </p:nvSpPr>
        <p:spPr>
          <a:xfrm>
            <a:off x="4427640" y="206064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ая соединительная линия 50"/>
          <p:cNvSpPr/>
          <p:nvPr/>
        </p:nvSpPr>
        <p:spPr>
          <a:xfrm>
            <a:off x="4572000" y="206064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ая соединительная линия 51"/>
          <p:cNvSpPr/>
          <p:nvPr/>
        </p:nvSpPr>
        <p:spPr>
          <a:xfrm>
            <a:off x="4572000" y="162864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211640" y="3141720"/>
            <a:ext cx="4897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Уже более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2,8 млн. абонентов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(на начало 2018 года  – 2,5 млн.)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, в том числе 310 тыс. сельских, пользуются преимуществами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мультисервисной платформы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(далее –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IMS-платформа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), которая предоставляет каждому пользователю комплекс традиционных услуг телефонной связи и новые современные сервисы </a:t>
            </a:r>
            <a:r>
              <a:rPr b="0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(музыкальный марафон, CLIP, аудиоконференция, виртуальный номер и др.)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711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оздание максимально комфортных условий для прожи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одержимое 2"/>
          <p:cNvSpPr/>
          <p:nvPr/>
        </p:nvSpPr>
        <p:spPr>
          <a:xfrm>
            <a:off x="139680" y="5013360"/>
            <a:ext cx="87202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В г.Солигорске и Солигорском районе за 2018 год высажено 950 деревьев, 570 кустарников, выращено собственными силами и высажено 25 000 ед. цветочной рассады. Изготовлено 3 цветочные клумбы: въезд в г.Солигорск со стороны д.Дубеи, клумба в виде герба на пересечении улиц Набережная и Ленина, композиция «Бабочка» в парке 4-х стихий. Установлено 85 скамеек и 94 урны. Проведено благоустройство 7 детских игровых комплексов (песочницы, качели, горки).  Выполнено 7500 м. кв. ямочного ремонта дорог и тротуа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12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14"/>
          <p:cNvSpPr/>
          <p:nvPr/>
        </p:nvSpPr>
        <p:spPr>
          <a:xfrm>
            <a:off x="917640" y="617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&amp;Kcy;&amp;acy;&amp;rcy;&amp;tcy;&amp;icy;&amp;ncy;&amp;kcy;&amp;icy; &amp;pcy;&amp;ocy; &amp;zcy;&amp;acy;&amp;pcy;&amp;rcy;&amp;ocy;&amp;scy;&amp;ucy; &amp;iecy; &amp;dcy;&amp;ocy;&amp;scy;&amp;tcy;&amp;acy;&amp;vcy;&amp;kcy;&amp;acy; &amp;tcy;&amp;ocy;&amp;vcy;&amp;acy;&amp;rcy;&amp;ocy;&amp;vcy;"/>
          <p:cNvPicPr/>
          <p:nvPr/>
        </p:nvPicPr>
        <p:blipFill>
          <a:blip r:embed="rId1"/>
          <a:stretch/>
        </p:blipFill>
        <p:spPr>
          <a:xfrm>
            <a:off x="233280" y="1309680"/>
            <a:ext cx="3884760" cy="262404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11"/>
          <p:cNvSpPr/>
          <p:nvPr/>
        </p:nvSpPr>
        <p:spPr>
          <a:xfrm>
            <a:off x="4200480" y="2205000"/>
            <a:ext cx="4692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Охват территории республики услугами мобильной связи третьего поколения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3G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на 1 октября 2018 г. увеличился до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97,1%,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а охват населения составил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99,9%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13"/>
          <p:cNvSpPr/>
          <p:nvPr/>
        </p:nvSpPr>
        <p:spPr>
          <a:xfrm>
            <a:off x="4284720" y="836640"/>
            <a:ext cx="4824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«Поникновение» универсальной услуги составляет 98% в населенных пунктах с числом домохозяйств 100 и более и 58% – в населенных пунктах с числом домохозяйств от 50 до 10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424720" cy="633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оздание максимально комфортных условий для прожи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8920" y="1091880"/>
            <a:ext cx="48243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В ходе выполнения Республиканской программы мероприятий по проведению в Республике Беларусь 2018–2020 годов под знаком Года малой родины, утвержденной постановлением Совета Министров Республики Беларусь от 18.07.2018 № 547, в части создания максимально комфортных условий для прожи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в соответствии с Государственной программой «Комфортное жилье и благоприятная среда», утвержденной постановлением Совета Министров Республики Беларусь от 21 апреля 2016 г. № 326, организациями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ГПО «Белэнерго»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выполнены работы по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строительству (реконструкции) электрических сетей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0,4-10 кВ: в 2017 году – более 571 км, за 9 месяцев 2018 г. – более 443 к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газоснабжающими организациями ГПО «Белтопгаз» за 9 месяцев текущего года построено и введено в эксплуатацию более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390 км распределительных газопроводов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для газификации эксплуатируемых жилых домов гражда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://minenergo.gov.by/wp-content/uploads/spec_24092012152215-3.jpg"/>
          <p:cNvPicPr/>
          <p:nvPr/>
        </p:nvPicPr>
        <p:blipFill>
          <a:blip r:embed="rId1"/>
          <a:stretch/>
        </p:blipFill>
        <p:spPr>
          <a:xfrm>
            <a:off x="5076720" y="1125360"/>
            <a:ext cx="3691080" cy="2732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://www.pristalica.by/files/mysite/reg_images/bezymyannyy_0004.jpg"/>
          <p:cNvPicPr/>
          <p:nvPr/>
        </p:nvPicPr>
        <p:blipFill>
          <a:blip r:embed="rId2"/>
          <a:stretch/>
        </p:blipFill>
        <p:spPr>
          <a:xfrm>
            <a:off x="5105520" y="4292640"/>
            <a:ext cx="382572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https://kolodischi.by/storage/uploaded/2ba75de73034554b0b108d21b96064d2.jpg"/>
          <p:cNvPicPr/>
          <p:nvPr/>
        </p:nvPicPr>
        <p:blipFill>
          <a:blip r:embed="rId1"/>
          <a:stretch/>
        </p:blipFill>
        <p:spPr>
          <a:xfrm>
            <a:off x="-27000" y="260280"/>
            <a:ext cx="3267000" cy="4608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2160" y="198000"/>
            <a:ext cx="5721480" cy="1143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тимулирование деловой активности граждан, обеспечение занятости и самозанят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2360" y="1566360"/>
            <a:ext cx="5400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Arial"/>
                <a:ea typeface="Arial"/>
              </a:rPr>
              <a:t>Сегодня в стране работает более 18 тыс. </a:t>
            </a:r>
            <a:r>
              <a:rPr b="1" lang="ru-RU" sz="1400" spc="-1" strike="noStrike">
                <a:solidFill>
                  <a:srgbClr val="7030a0"/>
                </a:solidFill>
                <a:latin typeface="Arial"/>
                <a:ea typeface="Arial"/>
              </a:rPr>
              <a:t>интернет-магазинов</a:t>
            </a:r>
            <a:r>
              <a:rPr b="0" lang="ru-RU" sz="1400" spc="-1" strike="noStrike">
                <a:solidFill>
                  <a:srgbClr val="7030a0"/>
                </a:solidFill>
                <a:latin typeface="Arial"/>
                <a:ea typeface="Arial"/>
              </a:rPr>
              <a:t>, прирост составил </a:t>
            </a:r>
            <a:r>
              <a:rPr b="1" lang="ru-RU" sz="1400" spc="-1" strike="noStrike">
                <a:solidFill>
                  <a:srgbClr val="7030a0"/>
                </a:solidFill>
                <a:latin typeface="Arial"/>
                <a:ea typeface="Arial"/>
              </a:rPr>
              <a:t>2320</a:t>
            </a:r>
            <a:r>
              <a:rPr b="0" lang="ru-RU" sz="1400" spc="-1" strike="noStrike">
                <a:solidFill>
                  <a:srgbClr val="7030a0"/>
                </a:solidFill>
                <a:latin typeface="Arial"/>
                <a:ea typeface="Arial"/>
              </a:rPr>
              <a:t> магазинов, или 14,8% к началу года. В прошедшем году зарегистрировались 760 субъектов хозяйствования, которые занимаются интернет- торговлей и работают по упрощенной системе налогообложе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Arial"/>
                <a:ea typeface="Arial"/>
              </a:rPr>
              <a:t>Большая часть интернет-магазинов - 79% - зарегистрирована в Минске и Минской области. 51,5% - индивидуальными предпринимателями, 48,5% - юридическими лица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Arial"/>
                <a:ea typeface="Arial"/>
              </a:rPr>
              <a:t>Наблюдается активный рост количества интернет-магазинов по продаже непродовольственных товаров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Arial"/>
                <a:ea typeface="Arial"/>
              </a:rPr>
              <a:t>В республику пришли известные компании, предлагающие потребителям в сети Интернет большой ассортимент товаров легкой промышленност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Arial"/>
                <a:ea typeface="Arial"/>
              </a:rPr>
              <a:t>Развивается и онлайн-торговля продовольственными товарами. Интернет-торговля в Беларуси находится на активном старт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Arial"/>
                <a:ea typeface="Arial"/>
              </a:rPr>
              <a:t>С учетом упрощений в ведении бизнеса эта сфера еще более динамично заработает в ближайшее врем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https://kolodischi.by/storage/uploaded/84f77b7b50a6721b281bf989c5bec3b8.jpg"/>
          <p:cNvPicPr/>
          <p:nvPr/>
        </p:nvPicPr>
        <p:blipFill>
          <a:blip r:embed="rId2"/>
          <a:stretch/>
        </p:blipFill>
        <p:spPr>
          <a:xfrm>
            <a:off x="19080" y="495936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https://kolodischi.by/storage/uploaded/bf61a8f900357faf52d660fdf5f43fe3.jpg"/>
          <p:cNvPicPr/>
          <p:nvPr/>
        </p:nvPicPr>
        <p:blipFill>
          <a:blip r:embed="rId3"/>
          <a:stretch/>
        </p:blipFill>
        <p:spPr>
          <a:xfrm>
            <a:off x="-36360" y="3381480"/>
            <a:ext cx="255564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4922640" cy="10083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нновационная деятельност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должается создание инновационно-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мышленных кластер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http://www.kleck.by/wp-content/uploads/2019/01/minsknews.by-%D1%81%D0%BE%D0%BA%D0%BE%D0%BB%D0%BE%D0%B2%D1%81%D0%BA%D0%B8%D0%B9.jpg"/>
          <p:cNvPicPr/>
          <p:nvPr/>
        </p:nvPicPr>
        <p:blipFill>
          <a:blip r:embed="rId1"/>
          <a:stretch/>
        </p:blipFill>
        <p:spPr>
          <a:xfrm>
            <a:off x="324000" y="1278000"/>
            <a:ext cx="1904760" cy="1790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http://www.kleck.by/wp-content/uploads/2019/01/%D0%9D%D0%B0%D0%B9%D0%B4%D0%BE%D0%B2%D0%B8%D1%87-gew.by_.jpg"/>
          <p:cNvPicPr/>
          <p:nvPr/>
        </p:nvPicPr>
        <p:blipFill>
          <a:blip r:embed="rId2"/>
          <a:stretch/>
        </p:blipFill>
        <p:spPr>
          <a:xfrm>
            <a:off x="2340000" y="1251000"/>
            <a:ext cx="1905120" cy="1952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http://www.kleck.by/wp-content/uploads/2019/01/zhdanovichi.jpg"/>
          <p:cNvPicPr/>
          <p:nvPr/>
        </p:nvPicPr>
        <p:blipFill>
          <a:blip r:embed="rId3"/>
          <a:stretch/>
        </p:blipFill>
        <p:spPr>
          <a:xfrm>
            <a:off x="250920" y="3860640"/>
            <a:ext cx="1646280" cy="201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ttp://www.kleck.by/wp-content/uploads/2019/01/%D0%9D%D0%BE%D0%B2%D0%B8%D1%86%D0%BA%D0%B8%D0%B9-belta.by_.jpg"/>
          <p:cNvPicPr/>
          <p:nvPr/>
        </p:nvPicPr>
        <p:blipFill>
          <a:blip r:embed="rId4"/>
          <a:stretch/>
        </p:blipFill>
        <p:spPr>
          <a:xfrm>
            <a:off x="4251240" y="2809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http://www.kleck.by/wp-content/uploads/2019/01/%D0%93%D0%B0%D0%BB%D0%B0%D1%81%D1%8C-pristalica.by_.jpg"/>
          <p:cNvPicPr/>
          <p:nvPr/>
        </p:nvPicPr>
        <p:blipFill>
          <a:blip r:embed="rId5"/>
          <a:stretch/>
        </p:blipFill>
        <p:spPr>
          <a:xfrm>
            <a:off x="2233440" y="4051440"/>
            <a:ext cx="1825920" cy="1933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http://www.kleck.by/wp-content/uploads/2019/01/mpravda.by-%D0%A1%D0%B0%D0%BB%D0%B0%D0%B4%D1%83%D1%85%D0%B0.jpg"/>
          <p:cNvPicPr/>
          <p:nvPr/>
        </p:nvPicPr>
        <p:blipFill>
          <a:blip r:embed="rId6"/>
          <a:stretch/>
        </p:blipFill>
        <p:spPr>
          <a:xfrm>
            <a:off x="5364000" y="189000"/>
            <a:ext cx="1905120" cy="2124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http://www.kleck.by/wp-content/uploads/2019/01/%D0%91%D0%B5%D0%B7%D1%8B%D0%BC%D1%8F%D0%BD%D0%BD%D1%8B%D0%B9.jpg"/>
          <p:cNvPicPr/>
          <p:nvPr/>
        </p:nvPicPr>
        <p:blipFill>
          <a:blip r:embed="rId7"/>
          <a:stretch/>
        </p:blipFill>
        <p:spPr>
          <a:xfrm>
            <a:off x="7008840" y="1844640"/>
            <a:ext cx="1905120" cy="1924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http://www.kleck.by/wp-content/uploads/2019/01/%D0%A6%D0%B2%D0%B8%D1%80%D0%BA%D0%BE.jpg"/>
          <p:cNvPicPr/>
          <p:nvPr/>
        </p:nvPicPr>
        <p:blipFill>
          <a:blip r:embed="rId8"/>
          <a:stretch/>
        </p:blipFill>
        <p:spPr>
          <a:xfrm>
            <a:off x="6195960" y="4259160"/>
            <a:ext cx="1760760" cy="212256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3"/>
          <p:cNvSpPr/>
          <p:nvPr/>
        </p:nvSpPr>
        <p:spPr>
          <a:xfrm>
            <a:off x="7485120" y="6453360"/>
            <a:ext cx="15699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2060"/>
                </a:solidFill>
                <a:latin typeface="Arial"/>
                <a:ea typeface="Arial"/>
              </a:rPr>
              <a:t>Цвирко Владимир Андрееви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12"/>
          <p:cNvSpPr/>
          <p:nvPr/>
        </p:nvSpPr>
        <p:spPr>
          <a:xfrm>
            <a:off x="4389480" y="4869000"/>
            <a:ext cx="15699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Новицкий Сергей Григорьеви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13"/>
          <p:cNvSpPr/>
          <p:nvPr/>
        </p:nvSpPr>
        <p:spPr>
          <a:xfrm>
            <a:off x="7236000" y="3789360"/>
            <a:ext cx="157140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Коваленко Инна Викторовн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14"/>
          <p:cNvSpPr/>
          <p:nvPr/>
        </p:nvSpPr>
        <p:spPr>
          <a:xfrm>
            <a:off x="7485120" y="1197000"/>
            <a:ext cx="15699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Саладуха Михаил Владимирови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15"/>
          <p:cNvSpPr/>
          <p:nvPr/>
        </p:nvSpPr>
        <p:spPr>
          <a:xfrm>
            <a:off x="409680" y="3213000"/>
            <a:ext cx="15699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Соколовский Станислав Чеславови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16"/>
          <p:cNvSpPr/>
          <p:nvPr/>
        </p:nvSpPr>
        <p:spPr>
          <a:xfrm>
            <a:off x="2496960" y="3284640"/>
            <a:ext cx="157032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Найдович Сергей Михайлови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17"/>
          <p:cNvSpPr/>
          <p:nvPr/>
        </p:nvSpPr>
        <p:spPr>
          <a:xfrm>
            <a:off x="324000" y="6021360"/>
            <a:ext cx="15699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Чуйко Григорий Петрови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18"/>
          <p:cNvSpPr/>
          <p:nvPr/>
        </p:nvSpPr>
        <p:spPr>
          <a:xfrm>
            <a:off x="2484360" y="6054840"/>
            <a:ext cx="15699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Галась Болеслав Францеви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2" descr="http://myadel.minsk-region.by/images/storage/banners/work_000661_a7bb735bdda74468b74b5822676a187a.jpg"/>
          <p:cNvPicPr/>
          <p:nvPr/>
        </p:nvPicPr>
        <p:blipFill>
          <a:blip r:embed="rId1"/>
          <a:stretch/>
        </p:blipFill>
        <p:spPr>
          <a:xfrm>
            <a:off x="0" y="-560520"/>
            <a:ext cx="9109080" cy="18194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920" y="-2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оспитание у молодежи любви к родной зем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http://www.pristalica.by/cache/images/mysite/647a7309_w360_h220.jpg"/>
          <p:cNvPicPr/>
          <p:nvPr/>
        </p:nvPicPr>
        <p:blipFill>
          <a:blip r:embed="rId2"/>
          <a:stretch/>
        </p:blipFill>
        <p:spPr>
          <a:xfrm>
            <a:off x="766800" y="839880"/>
            <a:ext cx="3429000" cy="2095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http://www.pristalica.by/cache/images/mysite/1507629808328_bulletin_w320_h188.jpg"/>
          <p:cNvPicPr/>
          <p:nvPr/>
        </p:nvPicPr>
        <p:blipFill>
          <a:blip r:embed="rId3"/>
          <a:stretch/>
        </p:blipFill>
        <p:spPr>
          <a:xfrm>
            <a:off x="1631880" y="2565360"/>
            <a:ext cx="3048120" cy="1790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http://myadel.minsk-region.by/uploads/images/19-07-2018-2.jpg"/>
          <p:cNvPicPr/>
          <p:nvPr/>
        </p:nvPicPr>
        <p:blipFill>
          <a:blip r:embed="rId4"/>
          <a:stretch/>
        </p:blipFill>
        <p:spPr>
          <a:xfrm>
            <a:off x="0" y="4221000"/>
            <a:ext cx="4195800" cy="2567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http://www.peramoga.by/wp-content/uploads/2018/12/thumbnail-27.jpg"/>
          <p:cNvPicPr/>
          <p:nvPr/>
        </p:nvPicPr>
        <p:blipFill>
          <a:blip r:embed="rId5"/>
          <a:stretch/>
        </p:blipFill>
        <p:spPr>
          <a:xfrm>
            <a:off x="0" y="2903400"/>
            <a:ext cx="1969920" cy="131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www.kleck.by/wp-content/uploads/2019/01/w_1cb7889c.jpg"/>
          <p:cNvPicPr/>
          <p:nvPr/>
        </p:nvPicPr>
        <p:blipFill>
          <a:blip r:embed="rId6"/>
          <a:stretch/>
        </p:blipFill>
        <p:spPr>
          <a:xfrm>
            <a:off x="4195800" y="981000"/>
            <a:ext cx="4778280" cy="2914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IMG_20181002_201108 (1).jpg"/>
          <p:cNvPicPr/>
          <p:nvPr/>
        </p:nvPicPr>
        <p:blipFill>
          <a:blip r:embed="rId7"/>
          <a:stretch/>
        </p:blipFill>
        <p:spPr>
          <a:xfrm>
            <a:off x="4140360" y="3906720"/>
            <a:ext cx="329724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7120" y="165240"/>
            <a:ext cx="8877240" cy="5997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охранение историко-культурных и нравственных ценнос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http://www.kleck.by/wp-content/uploads/2019/01/minsk_i_zaslavl_2_biketrip_by.jpg"/>
          <p:cNvPicPr/>
          <p:nvPr/>
        </p:nvPicPr>
        <p:blipFill>
          <a:blip r:embed="rId1"/>
          <a:stretch/>
        </p:blipFill>
        <p:spPr>
          <a:xfrm>
            <a:off x="2843280" y="981000"/>
            <a:ext cx="6192720" cy="3892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http://www.kleck.by/wp-content/uploads/2019/01/193047_main.jpg"/>
          <p:cNvPicPr/>
          <p:nvPr/>
        </p:nvPicPr>
        <p:blipFill>
          <a:blip r:embed="rId2"/>
          <a:stretch/>
        </p:blipFill>
        <p:spPr>
          <a:xfrm>
            <a:off x="108000" y="4713120"/>
            <a:ext cx="3341520" cy="2244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https://bashny.net/uploads/images/00/00/13/2014/07/24/bf3fbee3d7.jpg"/>
          <p:cNvPicPr/>
          <p:nvPr/>
        </p:nvPicPr>
        <p:blipFill>
          <a:blip r:embed="rId3"/>
          <a:stretch/>
        </p:blipFill>
        <p:spPr>
          <a:xfrm>
            <a:off x="149400" y="836640"/>
            <a:ext cx="3558960" cy="2409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https://img-fotki.yandex.ru/get/4115/55607108.1dd/0_e780c_28c6b9ee_XL"/>
          <p:cNvPicPr/>
          <p:nvPr/>
        </p:nvPicPr>
        <p:blipFill>
          <a:blip r:embed="rId4"/>
          <a:stretch/>
        </p:blipFill>
        <p:spPr>
          <a:xfrm>
            <a:off x="3592440" y="4869000"/>
            <a:ext cx="3140280" cy="2089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https://img-fotki.yandex.ru/get/15579/55607108.1dd/0_e7815_1c978441_XL"/>
          <p:cNvPicPr/>
          <p:nvPr/>
        </p:nvPicPr>
        <p:blipFill>
          <a:blip r:embed="rId5"/>
          <a:stretch/>
        </p:blipFill>
        <p:spPr>
          <a:xfrm>
            <a:off x="6573960" y="5153040"/>
            <a:ext cx="2606400" cy="1731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http://img-fotki.yandex.ru/get/3714/55607108.1db/0_e731b_350ee9ef_orig"/>
          <p:cNvPicPr/>
          <p:nvPr/>
        </p:nvPicPr>
        <p:blipFill>
          <a:blip r:embed="rId6"/>
          <a:stretch/>
        </p:blipFill>
        <p:spPr>
          <a:xfrm>
            <a:off x="241200" y="3139920"/>
            <a:ext cx="26020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920" y="-27000"/>
            <a:ext cx="8229600" cy="633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бщереспубликанская информационная камп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4920" y="69192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В 2018 году</a:t>
            </a:r>
            <a:r>
              <a:rPr b="0" lang="be-BY" sz="1400" spc="-1" strike="noStrike">
                <a:solidFill>
                  <a:srgbClr val="002060"/>
                </a:solidFill>
                <a:latin typeface="Arial"/>
                <a:ea typeface="Arial"/>
              </a:rPr>
              <a:t> по теме </a:t>
            </a:r>
            <a:r>
              <a:rPr b="1" lang="be-BY" sz="1400" spc="-1" strike="noStrike">
                <a:solidFill>
                  <a:srgbClr val="002060"/>
                </a:solidFill>
                <a:latin typeface="Arial"/>
                <a:ea typeface="Arial"/>
              </a:rPr>
              <a:t>Г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ода малой родины </a:t>
            </a:r>
            <a:r>
              <a:rPr b="0" lang="be-BY" sz="1400" spc="-1" strike="noStrike">
                <a:solidFill>
                  <a:srgbClr val="002060"/>
                </a:solidFill>
                <a:latin typeface="Arial"/>
                <a:ea typeface="Arial"/>
              </a:rPr>
              <a:t>подготовлено более </a:t>
            </a:r>
            <a:r>
              <a:rPr b="1" lang="be-BY" sz="1400" spc="-1" strike="noStrike">
                <a:solidFill>
                  <a:srgbClr val="002060"/>
                </a:solidFill>
                <a:latin typeface="Arial"/>
                <a:ea typeface="Arial"/>
              </a:rPr>
              <a:t>2000</a:t>
            </a:r>
            <a:r>
              <a:rPr b="0" lang="be-BY" sz="1400" spc="-1" strike="noStrike">
                <a:solidFill>
                  <a:srgbClr val="002060"/>
                </a:solidFill>
                <a:latin typeface="Arial"/>
                <a:ea typeface="Arial"/>
              </a:rPr>
              <a:t> материалов, теле- и радиосюжетов.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В эфире национальных и региональных телеканалов находятся в ротации социальные тематические видеороли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Тематика </a:t>
            </a:r>
            <a:r>
              <a:rPr b="1" lang="be-BY" sz="1400" spc="-1" strike="noStrike">
                <a:solidFill>
                  <a:srgbClr val="002060"/>
                </a:solidFill>
                <a:latin typeface="Arial"/>
                <a:ea typeface="Arial"/>
              </a:rPr>
              <a:t>Г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ода малой родины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была широко представлена в рамках крупных республиканских и международных мероприятий </a:t>
            </a:r>
            <a:r>
              <a:rPr b="0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(Дня белорусской письменности, Международного медиафорума ”Партнерство во имя будущего“, выставки ”СМІ ў Беларусі“</a:t>
            </a:r>
            <a:r>
              <a:rPr b="0" i="1" lang="be-BY" sz="1400" spc="-1" strike="noStrike">
                <a:solidFill>
                  <a:srgbClr val="002060"/>
                </a:solidFill>
                <a:latin typeface="Arial"/>
                <a:ea typeface="Arial"/>
              </a:rPr>
              <a:t>, </a:t>
            </a:r>
            <a:r>
              <a:rPr b="0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Минской международной книжной выставки-ярмарки, республиканского конкурса юных чтецов ”Живая классика“)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Государственными издательствами выпущены сборник ”Зямля </a:t>
            </a:r>
            <a:r>
              <a:rPr b="0" lang="be-BY" sz="1400" spc="-1" strike="noStrike">
                <a:solidFill>
                  <a:srgbClr val="002060"/>
                </a:solidFill>
                <a:latin typeface="Arial"/>
                <a:ea typeface="Arial"/>
              </a:rPr>
              <a:t>бацькоў святая...“ в сер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ии</a:t>
            </a:r>
            <a:r>
              <a:rPr b="0" lang="be-BY" sz="1400" spc="-1" strike="noStrike">
                <a:solidFill>
                  <a:srgbClr val="002060"/>
                </a:solidFill>
                <a:latin typeface="Arial"/>
                <a:ea typeface="Arial"/>
              </a:rPr>
              <a:t> ”100 вершаў“ и книга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.Малявко ”Спадчына, або Каб не стаць манкуртам“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&amp;Scy;&amp;Mcy;&amp;Icy; &amp;Bcy;&amp;iecy;&amp;lcy;&amp;acy;&amp;rcy;&amp;ucy;&amp;scy;&amp;icy;"/>
          <p:cNvPicPr/>
          <p:nvPr/>
        </p:nvPicPr>
        <p:blipFill>
          <a:blip r:embed="rId1"/>
          <a:stretch/>
        </p:blipFill>
        <p:spPr>
          <a:xfrm>
            <a:off x="4932360" y="620640"/>
            <a:ext cx="4118040" cy="612144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4"/>
          <p:cNvSpPr/>
          <p:nvPr/>
        </p:nvSpPr>
        <p:spPr>
          <a:xfrm>
            <a:off x="125280" y="4581360"/>
            <a:ext cx="4518000" cy="2087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Во время проекта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"Минщина удивительная</a:t>
            </a:r>
            <a:r>
              <a:rPr b="0" lang="ru-RU" sz="1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"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облисполком представил журналистам региональных и республиканских СМИ на выбор около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430 информационных поводов,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включающие экскурсии по предприятиям, посещение живописных архитектурных и природных объектов, общение с профессионалами своего дела по всем районам центрального регио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ерспективы развития регионов, отдельных территорий и населенных пунктов Минщины в 2019 году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539640" y="1989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целях снижения межрегиональной дифференциации по уровню и качеству жизни населения, равномерного размещения и развития производительных сил работа будет осуществляться по трем основным направлениям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концентрация ресурсов в центрах экономического роста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, имеющих условия для получения максимальной отдачи для развития регионов и страны в цел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точечное ускоренное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звитие 11 городов с численностью более 80 тыс. человек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аселения, являющихся потенциальными центрами экономического роста (гг.Барановичи, Бобруйск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, Борисов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, Лида, Мозырь,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олодечно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, Новополоцк, Орша, Пинск, Полоцк, Солигорск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звитие агрогородков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 2019 году в регионах запланирована реализация проект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о созданию новых производств,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имеющих значение для инновационного разви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424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0% граждан в прошлом году ”смогли сделать что-то полезное для своей малой родины (улицы, населенного пункта, район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)“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                                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Опрос ИАЦ, декабрь 20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16600" y="115920"/>
            <a:ext cx="3936960" cy="494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5292720" y="5003640"/>
            <a:ext cx="3849840" cy="166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108000" y="0"/>
            <a:ext cx="47815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&amp;Ocy; &amp;pcy;&amp;rcy;&amp;iecy;&amp;iecy;&amp;mcy;&amp;scy;&amp;tcy;&amp;vcy;&amp;iecy;&amp;ncy;&amp;ncy;&amp;ocy;&amp;scy;&amp;tcy;&amp;icy;, &amp;ncy;&amp;ocy;&amp;vcy;&amp;ycy;&amp;khcy; &amp;pcy;&amp;rcy;&amp;ocy;&amp;iecy;&amp;kcy;&amp;tcy;&amp;acy;&amp;khcy; &amp;icy; &amp;zcy;&amp;acy;&amp;dcy;&amp;acy;&amp;chcy;&amp;acy;&amp;khcy; - &amp;icy;&amp;tcy;&amp;ocy;&amp;gcy;&amp;icy; &amp;vcy;&amp;scy;&amp;tcy;&amp;rcy;&amp;iecy;&amp;chcy;&amp;icy; &amp;Lcy;&amp;ucy;&amp;kcy;&amp;acy;&amp;shcy;&amp;iecy;&amp;ncy;&amp;kcy;&amp;ocy; &amp;scy; &amp;mcy;&amp;ocy;&amp;lcy;&amp;ocy;&amp;dcy;&amp;iecy;&amp;zhcy;&amp;softcy;&amp;yucy; &amp;vcy; &amp;scy;&amp;tcy;&amp;ocy;&amp;lcy;&amp;iecy;&amp;tcy;&amp;icy;&amp;iecy; &amp;Vcy;&amp;Lcy;&amp;Kcy;&amp;Scy;&amp;Mcy;"/>
          <p:cNvPicPr/>
          <p:nvPr/>
        </p:nvPicPr>
        <p:blipFill>
          <a:blip r:embed="rId1"/>
          <a:stretch/>
        </p:blipFill>
        <p:spPr>
          <a:xfrm>
            <a:off x="4356000" y="79200"/>
            <a:ext cx="4175280" cy="2702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179280" y="30686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«Если к естественному стремлению достичь больших высот в своей карьере, улучшить свое материальное положение у вас добавится искреннее желание быть полезным своей Родине, то ее будущее – в надежных руках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езидент Республики Беларусь А.Г.Лукашенко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Выступление  30 июня 2018 г. на Республиканском бал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выпускников учреждений высшего 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2492280"/>
            <a:ext cx="424800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11256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Это была моя идея. Много было предположений. Думал, надо все-таки эту тему подня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Это даже не год малой родины, а трехлетка, потому что за год мы вряд ли что-то там построим, создади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разу людей не повернешь. Они сначала должны привыкнуть, осознать, наметить себе какие-то планы, а где-то кому-то надо и деньги заработать, чтобы в свою малую родину вложиться, - отметил глава государст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 тогда я предложил, давайте мы объявим этот Годом малой родины и подумаем о продлении. Поэтому это только старт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А.Г. Лукашенк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hronika.info/uploads/posts/2015-07/1437634182_lukashenko.jpg"/>
          <p:cNvPicPr/>
          <p:nvPr/>
        </p:nvPicPr>
        <p:blipFill>
          <a:blip r:embed="rId1"/>
          <a:stretch/>
        </p:blipFill>
        <p:spPr>
          <a:xfrm>
            <a:off x="1262160" y="125280"/>
            <a:ext cx="63342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бщая информ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 2018 году численность населения Беларуси составила 9 491,8 тыс. челове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 нашей стране насчитывается 118 районов, 115 городов, 86 поселков городского типа, 23 119 сельских населенных пунк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ородское население – 78% от общего колич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 г.Минске проживает 1 982,4 тыс. человек), сельское – 22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pristalica.by/files/mysite/reg_images/000019_1529509427_307648_big.jpg"/>
          <p:cNvPicPr/>
          <p:nvPr/>
        </p:nvPicPr>
        <p:blipFill>
          <a:blip r:embed="rId1"/>
          <a:stretch/>
        </p:blipFill>
        <p:spPr>
          <a:xfrm>
            <a:off x="539640" y="3573360"/>
            <a:ext cx="522144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инская область – центральная, самая большая по территории область Республики Беларусь, граничит со всеми областями республ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Административное деление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области представлено 22 районами, 1 городом областного подчинения, 2 городами районного подчинения, 18 поселками городского типа, 5207 сельскими населенными пунк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ставительная власть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: областной Совет депутатов – 1, районные Советы депутатов – 22, городской Совет депутатов – 1; городские Советы депутатов городов районного подчинения – 2, поселковые и сельские Советы депутатов – 22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сполнительная власть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: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областной исполнительный комитет – 1, районные и городской исполнительные комитеты – 23, исполнительные комитеты городов районного подчинения – 2, поселковые и сельские исполнительные комитеты – 22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1143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ведение образцового порядка на земле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 благоустройство населенных пунктов (20 направлений работы мероприятий, организация и проведение 19 мероприятий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179280" y="141300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. Вовлечение в с</a:t>
            </a:r>
            <a:r>
              <a:rPr b="0" lang="en-US" sz="1100" spc="-1" strike="noStrike">
                <a:solidFill>
                  <a:srgbClr val="002060"/>
                </a:solidFill>
                <a:latin typeface="Arial"/>
                <a:ea typeface="Arial"/>
              </a:rPr>
              <a:t>/[</a:t>
            </a: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х оборот потенциально плодородных неиспользуемых с</a:t>
            </a:r>
            <a:r>
              <a:rPr b="0" lang="en-US" sz="1100" spc="-1" strike="noStrike">
                <a:solidFill>
                  <a:srgbClr val="002060"/>
                </a:solidFill>
                <a:latin typeface="Arial"/>
                <a:ea typeface="Arial"/>
              </a:rPr>
              <a:t>/</a:t>
            </a: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х земель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179280" y="1844640"/>
            <a:ext cx="4248360" cy="504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2. Проведение работ по демонтажу и сносу аварийных и непригодных для использования зданий в сельских населенных пункта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179280" y="242100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3. Рекультивация и вовлечение в хозяйственный оборот освободившихся земел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179280" y="2852640"/>
            <a:ext cx="4248360" cy="216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4. Рекультивация внутрихозяйственных карьеров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179280" y="3429000"/>
            <a:ext cx="4248360" cy="431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6. Упрощение порядка получения разрешительной документации при индивидуальном жилищном строительстве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179280" y="3933720"/>
            <a:ext cx="4248360" cy="35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7. Совершенствовании порядка градостроительного планирования в сельских населенных пунктах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179280" y="3141720"/>
            <a:ext cx="4248360" cy="216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5. Поддержание в надлежащем состоянии и благоустройств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179280" y="4365720"/>
            <a:ext cx="4248360" cy="215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8. Обустройство мест массового отдыха на водных объектах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11"/>
          <p:cNvSpPr/>
          <p:nvPr/>
        </p:nvSpPr>
        <p:spPr>
          <a:xfrm>
            <a:off x="179280" y="4653000"/>
            <a:ext cx="4248360" cy="431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9. Устройство (ремонт) спортивных и детских игровых площадок на территориях многоэтажной жилой застройк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12"/>
          <p:cNvSpPr/>
          <p:nvPr/>
        </p:nvSpPr>
        <p:spPr>
          <a:xfrm>
            <a:off x="4716360" y="141300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1. Разработка планов устойчивой городской мобильности для городов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13"/>
          <p:cNvSpPr/>
          <p:nvPr/>
        </p:nvSpPr>
        <p:spPr>
          <a:xfrm>
            <a:off x="4716360" y="184464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2. Наведение порядка в местах захоронения и поддержание их в надлежащем санитарном состояни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14"/>
          <p:cNvSpPr/>
          <p:nvPr/>
        </p:nvSpPr>
        <p:spPr>
          <a:xfrm>
            <a:off x="179280" y="5157720"/>
            <a:ext cx="4248360" cy="35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0. Выбор </a:t>
            </a:r>
            <a:r>
              <a:rPr b="0" i="1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аг.Замки Крупского района Минской области</a:t>
            </a: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 для реализации пилотного проекта ”</a:t>
            </a:r>
            <a:r>
              <a:rPr b="0" i="1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Деревня будущего</a:t>
            </a: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“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5"/>
          <p:cNvSpPr/>
          <p:nvPr/>
        </p:nvSpPr>
        <p:spPr>
          <a:xfrm>
            <a:off x="4716360" y="400536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7. Проведение санитарных рубок и уборки захламленности в леса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16"/>
          <p:cNvSpPr/>
          <p:nvPr/>
        </p:nvSpPr>
        <p:spPr>
          <a:xfrm>
            <a:off x="4716360" y="357336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6. Увеличение охвата населения системой раздельного сбора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7"/>
          <p:cNvSpPr/>
          <p:nvPr/>
        </p:nvSpPr>
        <p:spPr>
          <a:xfrm>
            <a:off x="4716360" y="443700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8. Уборка твердых бытовых отходов в лесном фонде и прилегающих территориях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8"/>
          <p:cNvSpPr/>
          <p:nvPr/>
        </p:nvSpPr>
        <p:spPr>
          <a:xfrm>
            <a:off x="4716360" y="486900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9. Увеличение количества установленных контейнеров для сбора вторичных материальных ресурсов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9"/>
          <p:cNvSpPr/>
          <p:nvPr/>
        </p:nvSpPr>
        <p:spPr>
          <a:xfrm>
            <a:off x="4716360" y="227664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3. Реставрация и благоустройство историко-культурных ценносте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20"/>
          <p:cNvSpPr/>
          <p:nvPr/>
        </p:nvSpPr>
        <p:spPr>
          <a:xfrm>
            <a:off x="4716360" y="3141720"/>
            <a:ext cx="4248360" cy="358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5. Проведение глобальной экологической кампании ”</a:t>
            </a:r>
            <a:r>
              <a:rPr b="0" i="1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Обустроим малую родину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21"/>
          <p:cNvSpPr/>
          <p:nvPr/>
        </p:nvSpPr>
        <p:spPr>
          <a:xfrm>
            <a:off x="4716360" y="270828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14. Размещение в населенных пунктах скульптурных компо-зиций на темы белорусского народного эпоса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2"/>
          <p:cNvSpPr/>
          <p:nvPr/>
        </p:nvSpPr>
        <p:spPr>
          <a:xfrm>
            <a:off x="4716360" y="5300640"/>
            <a:ext cx="424836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  <a:ea typeface="Arial"/>
              </a:rPr>
              <a:t>20. Организация и проведение мероприятий по 19 направления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23"/>
          <p:cNvSpPr/>
          <p:nvPr/>
        </p:nvSpPr>
        <p:spPr>
          <a:xfrm>
            <a:off x="179280" y="5805360"/>
            <a:ext cx="8785440" cy="76536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Минтранс. Р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аботы по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благоустройству республиканских автомобильных дорог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: ремонт малых архитектурных форм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– 113 шт.;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установка контейнеров для сбора отходов –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52 шт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.; удаление отходов, древесины, опасных деревьев, древесно-кустарниковой растительности –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5,4 тыс. км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; очищение полосы отвода республиканских дорог с вывозом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255 тонн мусора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; вывоз с остановок и стоянок транспортных средств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540 тонн отходов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25"/>
          <p:cNvSpPr/>
          <p:nvPr/>
        </p:nvSpPr>
        <p:spPr>
          <a:xfrm>
            <a:off x="4535640" y="1258920"/>
            <a:ext cx="36360" cy="418608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29"/>
          <p:cNvSpPr/>
          <p:nvPr/>
        </p:nvSpPr>
        <p:spPr>
          <a:xfrm>
            <a:off x="4427640" y="544500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33"/>
          <p:cNvSpPr/>
          <p:nvPr/>
        </p:nvSpPr>
        <p:spPr>
          <a:xfrm>
            <a:off x="4572000" y="544500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34"/>
          <p:cNvSpPr/>
          <p:nvPr/>
        </p:nvSpPr>
        <p:spPr>
          <a:xfrm>
            <a:off x="4572000" y="508464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35"/>
          <p:cNvSpPr/>
          <p:nvPr/>
        </p:nvSpPr>
        <p:spPr>
          <a:xfrm>
            <a:off x="4427640" y="494172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ая соединительная линия 36"/>
          <p:cNvSpPr/>
          <p:nvPr/>
        </p:nvSpPr>
        <p:spPr>
          <a:xfrm>
            <a:off x="4572000" y="465300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ая соединительная линия 37"/>
          <p:cNvSpPr/>
          <p:nvPr/>
        </p:nvSpPr>
        <p:spPr>
          <a:xfrm>
            <a:off x="4427640" y="414972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ая соединительная линия 38"/>
          <p:cNvSpPr/>
          <p:nvPr/>
        </p:nvSpPr>
        <p:spPr>
          <a:xfrm>
            <a:off x="4427640" y="450864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ая соединительная линия 39"/>
          <p:cNvSpPr/>
          <p:nvPr/>
        </p:nvSpPr>
        <p:spPr>
          <a:xfrm>
            <a:off x="4427640" y="364500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ая соединительная линия 40"/>
          <p:cNvSpPr/>
          <p:nvPr/>
        </p:nvSpPr>
        <p:spPr>
          <a:xfrm>
            <a:off x="4572000" y="378936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41"/>
          <p:cNvSpPr/>
          <p:nvPr/>
        </p:nvSpPr>
        <p:spPr>
          <a:xfrm>
            <a:off x="4572000" y="422100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42"/>
          <p:cNvSpPr/>
          <p:nvPr/>
        </p:nvSpPr>
        <p:spPr>
          <a:xfrm>
            <a:off x="4427640" y="321300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43"/>
          <p:cNvSpPr/>
          <p:nvPr/>
        </p:nvSpPr>
        <p:spPr>
          <a:xfrm>
            <a:off x="4427640" y="299736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44"/>
          <p:cNvSpPr/>
          <p:nvPr/>
        </p:nvSpPr>
        <p:spPr>
          <a:xfrm>
            <a:off x="4572000" y="292428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45"/>
          <p:cNvSpPr/>
          <p:nvPr/>
        </p:nvSpPr>
        <p:spPr>
          <a:xfrm>
            <a:off x="4572000" y="335772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46"/>
          <p:cNvSpPr/>
          <p:nvPr/>
        </p:nvSpPr>
        <p:spPr>
          <a:xfrm>
            <a:off x="4572000" y="242100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47"/>
          <p:cNvSpPr/>
          <p:nvPr/>
        </p:nvSpPr>
        <p:spPr>
          <a:xfrm>
            <a:off x="4427640" y="263700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48"/>
          <p:cNvSpPr/>
          <p:nvPr/>
        </p:nvSpPr>
        <p:spPr>
          <a:xfrm>
            <a:off x="4427640" y="162864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49"/>
          <p:cNvSpPr/>
          <p:nvPr/>
        </p:nvSpPr>
        <p:spPr>
          <a:xfrm>
            <a:off x="4427640" y="213372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50"/>
          <p:cNvSpPr/>
          <p:nvPr/>
        </p:nvSpPr>
        <p:spPr>
          <a:xfrm>
            <a:off x="4572000" y="206064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51"/>
          <p:cNvSpPr/>
          <p:nvPr/>
        </p:nvSpPr>
        <p:spPr>
          <a:xfrm>
            <a:off x="4572000" y="1628640"/>
            <a:ext cx="1443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&amp;Kcy;&amp;acy;&amp;rcy;&amp;tcy;&amp;icy;&amp;ncy;&amp;kcy;&amp;icy; &amp;pcy;&amp;ocy; &amp;zcy;&amp;acy;&amp;pcy;&amp;rcy;&amp;ocy;&amp;scy;&amp;ucy; &amp;ecy;&amp;kcy;&amp;ocy;&amp;lcy;&amp;ocy;&amp;gcy;&amp;icy;&amp;chcy;&amp;iecy;&amp;scy;&amp;kcy;&amp;acy;&amp;yacy; &amp;kcy;&amp;ocy;&amp;mcy;&amp;pcy;&amp;acy;&amp;ncy;&amp;icy;&amp;yacy; ”&amp;Ocy;&amp;bcy;&amp;ucy;&amp;scy;&amp;tcy;&amp;rcy;&amp;ocy;&amp;icy;&amp;mcy; &amp;mcy;&amp;acy;&amp;lcy;&amp;ucy;&amp;yucy; &amp;rcy;&amp;ocy;&amp;dcy;&amp;icy;&amp;ncy;&amp;ucy;“ &amp;Mcy;&amp;icy;&amp;ncy;&amp;scy;&amp;kcy;&amp;acy;&amp;yacy; &amp;ocy;&amp;bcy;&amp;lcy;&amp;acy;&amp;scy;&amp;tcy;&amp;softcy;"/>
          <p:cNvPicPr/>
          <p:nvPr/>
        </p:nvPicPr>
        <p:blipFill>
          <a:blip r:embed="rId1"/>
          <a:stretch/>
        </p:blipFill>
        <p:spPr>
          <a:xfrm>
            <a:off x="-36360" y="-27000"/>
            <a:ext cx="5256000" cy="3511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&amp;Kcy;&amp;acy;&amp;rcy;&amp;tcy;&amp;icy;&amp;ncy;&amp;kcy;&amp;icy; &amp;pcy;&amp;ocy; &amp;zcy;&amp;acy;&amp;pcy;&amp;rcy;&amp;ocy;&amp;scy;&amp;ucy; &amp;ecy;&amp;kcy;&amp;ocy;&amp;lcy;&amp;ocy;&amp;gcy;&amp;icy;&amp;chcy;&amp;iecy;&amp;scy;&amp;kcy;&amp;acy;&amp;yacy; &amp;kcy;&amp;ocy;&amp;mcy;&amp;pcy;&amp;acy;&amp;ncy;&amp;icy;&amp;yacy; ”&amp;Ocy;&amp;bcy;&amp;ucy;&amp;scy;&amp;tcy;&amp;rcy;&amp;ocy;&amp;icy;&amp;mcy; &amp;mcy;&amp;acy;&amp;lcy;&amp;ucy;&amp;yucy; &amp;rcy;&amp;ocy;&amp;dcy;&amp;icy;&amp;ncy;&amp;ucy;“ &amp;Mcy;&amp;icy;&amp;ncy;&amp;scy;&amp;kcy;&amp;acy;&amp;yacy; &amp;ocy;&amp;bcy;&amp;lcy;&amp;acy;&amp;scy;&amp;tcy;&amp;softcy;"/>
          <p:cNvPicPr/>
          <p:nvPr/>
        </p:nvPicPr>
        <p:blipFill>
          <a:blip r:embed="rId2"/>
          <a:stretch/>
        </p:blipFill>
        <p:spPr>
          <a:xfrm>
            <a:off x="5148360" y="549360"/>
            <a:ext cx="4003560" cy="266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&amp;Kcy;&amp;acy;&amp;rcy;&amp;tcy;&amp;icy;&amp;ncy;&amp;kcy;&amp;icy; &amp;pcy;&amp;ocy; &amp;zcy;&amp;acy;&amp;pcy;&amp;rcy;&amp;ocy;&amp;scy;&amp;ucy; &amp;ecy;&amp;kcy;&amp;ocy;&amp;lcy;&amp;ocy;&amp;gcy;&amp;icy;&amp;chcy;&amp;iecy;&amp;scy;&amp;kcy;&amp;acy;&amp;yacy; &amp;kcy;&amp;ocy;&amp;mcy;&amp;pcy;&amp;acy;&amp;ncy;&amp;icy;&amp;yacy; ”&amp;Ocy;&amp;bcy;&amp;ucy;&amp;scy;&amp;tcy;&amp;rcy;&amp;ocy;&amp;icy;&amp;mcy; &amp;mcy;&amp;acy;&amp;lcy;&amp;ucy;&amp;yucy; &amp;rcy;&amp;ocy;&amp;dcy;&amp;icy;&amp;ncy;&amp;ucy;“ &amp;Mcy;&amp;icy;&amp;ncy;&amp;scy;&amp;kcy;&amp;acy;&amp;yacy; &amp;ocy;&amp;bcy;&amp;lcy;&amp;acy;&amp;scy;&amp;tcy;&amp;softcy;"/>
          <p:cNvPicPr/>
          <p:nvPr/>
        </p:nvPicPr>
        <p:blipFill>
          <a:blip r:embed="rId3"/>
          <a:stretch/>
        </p:blipFill>
        <p:spPr>
          <a:xfrm>
            <a:off x="0" y="2637000"/>
            <a:ext cx="5529240" cy="4221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&amp;Kcy;&amp;acy;&amp;rcy;&amp;tcy;&amp;icy;&amp;ncy;&amp;kcy;&amp;icy; &amp;pcy;&amp;ocy; &amp;zcy;&amp;acy;&amp;pcy;&amp;rcy;&amp;ocy;&amp;scy;&amp;ucy; &amp;ecy;&amp;kcy;&amp;ocy;&amp;lcy;&amp;ocy;&amp;gcy;&amp;icy;&amp;chcy;&amp;iecy;&amp;scy;&amp;kcy;&amp;acy;&amp;yacy; &amp;kcy;&amp;ocy;&amp;mcy;&amp;pcy;&amp;acy;&amp;ncy;&amp;icy;&amp;yacy; ”&amp;Ocy;&amp;bcy;&amp;ucy;&amp;scy;&amp;tcy;&amp;rcy;&amp;ocy;&amp;icy;&amp;mcy; &amp;mcy;&amp;acy;&amp;lcy;&amp;ucy;&amp;yucy; &amp;rcy;&amp;ocy;&amp;dcy;&amp;icy;&amp;ncy;&amp;ucy;“ &amp;Mcy;&amp;icy;&amp;ncy;&amp;scy;&amp;kcy;&amp;acy;&amp;yacy; &amp;ocy;&amp;bcy;&amp;lcy;&amp;acy;&amp;scy;&amp;tcy;&amp;softcy;"/>
          <p:cNvPicPr/>
          <p:nvPr/>
        </p:nvPicPr>
        <p:blipFill>
          <a:blip r:embed="rId4"/>
          <a:stretch/>
        </p:blipFill>
        <p:spPr>
          <a:xfrm>
            <a:off x="5460840" y="3187800"/>
            <a:ext cx="36831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3" descr="Ð¤Ð¾ÑÐ¾ Ð¸Ð· Ð°ÑÑÐ¸Ð²Ð°"/>
          <p:cNvPicPr/>
          <p:nvPr/>
        </p:nvPicPr>
        <p:blipFill>
          <a:blip r:embed="rId1"/>
          <a:stretch/>
        </p:blipFill>
        <p:spPr>
          <a:xfrm>
            <a:off x="3019320" y="3763800"/>
            <a:ext cx="6124680" cy="3410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&amp;Kcy;&amp;acy;&amp;rcy;&amp;tcy;&amp;icy;&amp;ncy;&amp;kcy;&amp;icy; &amp;pcy;&amp;ocy; &amp;zcy;&amp;acy;&amp;pcy;&amp;rcy;&amp;ocy;&amp;scy;&amp;ucy; &amp;ecy;&amp;kcy;&amp;ocy;&amp;lcy;&amp;ocy;&amp;gcy;&amp;icy;&amp;chcy;&amp;iecy;&amp;scy;&amp;kcy;&amp;acy;&amp;yacy; &amp;kcy;&amp;ocy;&amp;mcy;&amp;pcy;&amp;acy;&amp;ncy;&amp;icy;&amp;yacy; ”&amp;Ocy;&amp;bcy;&amp;ucy;&amp;scy;&amp;tcy;&amp;rcy;&amp;ocy;&amp;icy;&amp;mcy; &amp;mcy;&amp;acy;&amp;lcy;&amp;ucy;&amp;yucy; &amp;rcy;&amp;ocy;&amp;dcy;&amp;icy;&amp;ncy;&amp;ucy;“ &amp;Mcy;&amp;icy;&amp;ncy;&amp;scy;&amp;kcy;&amp;acy;&amp;yacy; &amp;ocy;&amp;bcy;&amp;lcy;&amp;acy;&amp;scy;&amp;tcy;&amp;softcy;"/>
          <p:cNvPicPr/>
          <p:nvPr/>
        </p:nvPicPr>
        <p:blipFill>
          <a:blip r:embed="rId2"/>
          <a:stretch/>
        </p:blipFill>
        <p:spPr>
          <a:xfrm>
            <a:off x="468360" y="404640"/>
            <a:ext cx="6467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560" y="188640"/>
            <a:ext cx="9001080" cy="64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пуляризация спорта, туризма и активного образа жи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krupki.by/images/2016_6/x-329.jpg"/>
          <p:cNvPicPr/>
          <p:nvPr/>
        </p:nvPicPr>
        <p:blipFill>
          <a:blip r:embed="rId1"/>
          <a:stretch/>
        </p:blipFill>
        <p:spPr>
          <a:xfrm>
            <a:off x="100080" y="1052640"/>
            <a:ext cx="4997520" cy="28080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250920" y="6165720"/>
            <a:ext cx="8785080" cy="64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Агрогородок Замки занял 2-е место в стране в конкурсе на лучшую постановку физкультурно-оздоровительной и спортивно-массовой работ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http://krupki.by/images/2016_6/x-321.JPG"/>
          <p:cNvPicPr/>
          <p:nvPr/>
        </p:nvPicPr>
        <p:blipFill>
          <a:blip r:embed="rId2"/>
          <a:stretch/>
        </p:blipFill>
        <p:spPr>
          <a:xfrm>
            <a:off x="291960" y="3598920"/>
            <a:ext cx="4629240" cy="243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http://krupki.by/images/2016_6/x-319.JPG"/>
          <p:cNvPicPr/>
          <p:nvPr/>
        </p:nvPicPr>
        <p:blipFill>
          <a:blip r:embed="rId3"/>
          <a:stretch/>
        </p:blipFill>
        <p:spPr>
          <a:xfrm>
            <a:off x="5038560" y="1082520"/>
            <a:ext cx="4119840" cy="2487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http://krupki.by/images/2016_6/x-328.JPG"/>
          <p:cNvPicPr/>
          <p:nvPr/>
        </p:nvPicPr>
        <p:blipFill>
          <a:blip r:embed="rId4"/>
          <a:stretch/>
        </p:blipFill>
        <p:spPr>
          <a:xfrm>
            <a:off x="4921200" y="3570120"/>
            <a:ext cx="43005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3T07:37:41Z</dcterms:created>
  <dc:creator>Админ</dc:creator>
  <dc:description/>
  <dc:language>en-US</dc:language>
  <cp:lastModifiedBy>DariaChonyak</cp:lastModifiedBy>
  <dcterms:modified xsi:type="dcterms:W3CDTF">2019-01-17T09:11:40Z</dcterms:modified>
  <cp:revision>41</cp:revision>
  <dc:subject/>
  <dc:title>Большие дела года малой родины:  знаковые события  2018 года</dc:title>
</cp:coreProperties>
</file>