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5FCD-1B36-46BE-80F6-025835762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7FD2-A5A3-4A2C-BDC5-866F29057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9D6F-2CD4-4A2D-BFBE-08EA72505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E470-CC46-4725-8E96-405D78E90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C0C6-FBE9-404A-8E4E-0F117D726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9A9C-B344-483D-A923-2B7E73BD4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A059-215A-48C9-8449-456458C99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0C36-EB13-4DBB-96BE-52179AFFB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9AE4-4E33-484E-A779-517CFCFCE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F1C5-57AC-4297-B67D-8116DBBA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DCC9-2F53-40F1-8E79-A0DAFA5F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467B-F26A-4C9C-AD12-776B744D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EC456-0C5B-4198-AA7F-053318698B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5840" y="1142640"/>
            <a:ext cx="8215200" cy="37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дминистративная процедура 9.3.1</a:t>
            </a:r>
            <a:br>
              <a:rPr sz="4000"/>
            </a:br>
            <a:r>
              <a:rPr b="1" lang="ru-RU" sz="36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Выдача разрешительной документации на возведение одноквартирного, блокированного жилого дома и (или) нежилых капитальных построек на придомовой территории на предоставленном земельном участк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Прямоугольник 4"/>
          <p:cNvSpPr/>
          <p:nvPr/>
        </p:nvSpPr>
        <p:spPr>
          <a:xfrm>
            <a:off x="214200" y="357120"/>
            <a:ext cx="864396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r>
              <a:rPr b="1" lang="ru-RU" sz="3200" spc="-1" strike="noStrike" u="sng">
                <a:solidFill>
                  <a:srgbClr val="c00000"/>
                </a:solidFill>
                <a:uFillTx/>
                <a:latin typeface="Calibri"/>
                <a:ea typeface="Arial"/>
              </a:rPr>
              <a:t>Наименование структурного подразделения, выполняющего административную процедуру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  <a:ea typeface="Arial"/>
              </a:rPr>
              <a:t>: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  <a:ea typeface="Arial"/>
              </a:rPr>
              <a:t>        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  <a:ea typeface="Arial"/>
              </a:rPr>
              <a:t>Служба «одно окно» Воложинского райисполкома,               г. Воложин, пл.Свободы, 2, каб.102,  тел.57-3-31;  бесплатный номер  14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Calibri"/>
                <a:ea typeface="Arial"/>
              </a:rPr>
              <a:t>Режим работ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  <a:ea typeface="Arial"/>
              </a:rPr>
              <a:t>Понедельник, вторник, четверг, пятница    8.00 – 17.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  <a:ea typeface="Arial"/>
              </a:rPr>
              <a:t>Среда  8.00 – 20.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  <a:ea typeface="Arial"/>
              </a:rPr>
              <a:t>Перерыв на обед     13.00 – 14.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  <a:ea typeface="Arial"/>
              </a:rPr>
              <a:t>Каждая четвертая суббота месяца  9.00 – 13.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Calibri"/>
                <a:ea typeface="Arial"/>
              </a:rPr>
              <a:t>Специалисты 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  <a:ea typeface="Arial"/>
              </a:rPr>
              <a:t>– Литвин Тамара Георгие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  <a:ea typeface="Arial"/>
              </a:rPr>
              <a:t>                              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  <a:ea typeface="Arial"/>
              </a:rPr>
              <a:t>Василевская Олеся Юрье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кументы  и (или) сведения, представляемые гражданином для осуществления административной процедуры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14200" y="1600200"/>
            <a:ext cx="87156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■     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явлени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■   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исьменное согласие всех собственников земельного участка, находящегося в общей собствен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Документы и (или) сведения, запрашиваемые государственным органом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57120" y="142884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окументы удостоверяющие право на земельный участок, а также государственной регистрации объекта недвижимости, расположенного на нем (при наличии такого объект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ключения согласующих организаций и технические условия на инженерно-техническое обеспечение объек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644400" y="620640"/>
            <a:ext cx="84297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мер платы, взимаемой при осуществлении административной процедуры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av-_143"/>
          <p:cNvPicPr/>
          <p:nvPr/>
        </p:nvPicPr>
        <p:blipFill>
          <a:blip r:embed="rId1"/>
          <a:stretch/>
        </p:blipFill>
        <p:spPr>
          <a:xfrm>
            <a:off x="4000680" y="2428920"/>
            <a:ext cx="4400280" cy="3375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есплатн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Максимальный срок осуществления административной процедуры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 месяц со дня подачи заявлен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foeta_journal_foto_144"/>
          <p:cNvPicPr/>
          <p:nvPr/>
        </p:nvPicPr>
        <p:blipFill>
          <a:blip r:embed="rId1"/>
          <a:stretch/>
        </p:blipFill>
        <p:spPr>
          <a:xfrm>
            <a:off x="3092400" y="2714760"/>
            <a:ext cx="4254480" cy="32860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Срок действия справки, другого документа (решения), выдаваемых (принимаемого) при осуществлении административной процедур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■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 даты приемки объекта в эксплуатаци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7T12:40:26Z</dcterms:created>
  <dc:creator>Admin</dc:creator>
  <dc:description/>
  <dc:language>en-US</dc:language>
  <cp:lastModifiedBy>RePack by Diakov</cp:lastModifiedBy>
  <dcterms:modified xsi:type="dcterms:W3CDTF">2019-01-14T12:36:11Z</dcterms:modified>
  <cp:revision>15</cp:revision>
  <dc:subject/>
  <dc:title>Административная процедура 1.1.24 Принятие решения о предоставлении одноразовой субсидии на строительство (реконструкцию) или приобретение жилого помещения</dc:title>
</cp:coreProperties>
</file>