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215-86AE-42C8-BCF5-449D9C78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C9C-11A8-4488-ABA5-2923F13A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7F3-063D-449A-858F-7AB5F974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C11-CDDF-447B-84E8-BDFF15D5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07C-BEAE-4B79-AB70-90E20330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036-2FC4-4413-91F5-15070390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209-84F4-42AC-B153-BB85DEB1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C9B6-E45E-4A31-84F9-09400CF1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72A-A72A-40D5-BF3B-68977329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740-9B71-4F31-9867-0A4DDC13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F1B-9E2C-4A72-BB49-D77AB6FC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4B0-8CB8-409D-81FE-AC3FBE1F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8B88-8CD5-4872-B215-5818AB8F8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Воложин, остановка общественного транспорта по ул. Советская (возле магазина «Евроопт»), по состоянию на 14.01.201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20190114_122606_resized"/>
          <p:cNvPicPr/>
          <p:nvPr/>
        </p:nvPicPr>
        <p:blipFill>
          <a:blip r:embed="rId1"/>
          <a:stretch/>
        </p:blipFill>
        <p:spPr>
          <a:xfrm>
            <a:off x="544680" y="1600200"/>
            <a:ext cx="80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. Дзержинского, тротуар, не очищен от снега, по состоянию на 14.01.201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20190114_122925_resized"/>
          <p:cNvPicPr/>
          <p:nvPr/>
        </p:nvPicPr>
        <p:blipFill>
          <a:blip r:embed="rId1"/>
          <a:stretch/>
        </p:blipFill>
        <p:spPr>
          <a:xfrm>
            <a:off x="2843280" y="1600200"/>
            <a:ext cx="403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. Партизанская, тротуар, остановка общественного транспорта возле дома № 31, не очищены от снега, по состоянию на 14.01.201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0190114_123211_resized"/>
          <p:cNvPicPr/>
          <p:nvPr/>
        </p:nvPicPr>
        <p:blipFill>
          <a:blip r:embed="rId1"/>
          <a:stretch/>
        </p:blipFill>
        <p:spPr>
          <a:xfrm>
            <a:off x="3419640" y="1557360"/>
            <a:ext cx="417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1.2019г. Территории г.Воложина не полностью очищены от снега и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житие РУП Воложинский  ЖКХ ул.Мира,д.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6000" y="141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ая зона , ул. Мира,д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User\Мои документы\14.01.2019\Общежитие РУП Воложинский  ЖКХ ул.Мира,д.18.jpg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Мои документы\14.01.2019\Пешеходная зона , ул. Мира,д.20.jpg"/>
          <p:cNvPicPr/>
          <p:nvPr/>
        </p:nvPicPr>
        <p:blipFill>
          <a:blip r:embed="rId2"/>
          <a:stretch/>
        </p:blipFill>
        <p:spPr>
          <a:xfrm>
            <a:off x="5184720" y="2174760"/>
            <a:ext cx="29624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1.2019г. Территории г.Воложина не полностью очищены от снега и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404028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Советская, магазин «2 енота» (не очищена прилегающая территория от снег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17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Советская, клуб «Мик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183280" y="2174760"/>
            <a:ext cx="29653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1.2019г. Территории г.Воложина не полностью очищены от снега и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Гагарина. д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ая зона и автостоянка около дома №22 ул.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User\Мои документы\14.01.2019\Ул.Гагарина, д.10 .jpg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User\Мои документы\14.01.2019\Пешеходная зона и автостоянка около дома №22 ул.Мира.jpg"/>
          <p:cNvPicPr/>
          <p:nvPr/>
        </p:nvPicPr>
        <p:blipFill>
          <a:blip r:embed="rId2"/>
          <a:stretch/>
        </p:blipFill>
        <p:spPr>
          <a:xfrm>
            <a:off x="5184720" y="2174760"/>
            <a:ext cx="29624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1.2019г. Территории г.Воложина не полностью очищены от снега и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404028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Советская, торговые павиль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341000"/>
            <a:ext cx="4041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Советская,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529080" cy="3951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643280" y="2174760"/>
            <a:ext cx="35053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ая зона отдела  идеологической работы, культуры и по делам молодежи Воложинского райисполкома, 14.01.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чист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щ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Объект 11" descr=""/>
          <p:cNvPicPr/>
          <p:nvPr/>
        </p:nvPicPr>
        <p:blipFill>
          <a:blip r:embed="rId1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71" name="Объект 10" descr="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 магазина  Универмаг Воложинское райпо г.Воложин. 14.01.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очистка от снега  пешеходной зо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1360" y="1546200"/>
            <a:ext cx="4040280" cy="1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1640" y="1545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40280" cy="3535200"/>
          </a:xfrm>
          <a:prstGeom prst="rect">
            <a:avLst/>
          </a:prstGeom>
          <a:ln w="0">
            <a:noFill/>
          </a:ln>
        </p:spPr>
      </p:pic>
      <p:pic>
        <p:nvPicPr>
          <p:cNvPr id="76" name="Объект 4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04172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4T14:25:18Z</dcterms:created>
  <dc:creator>User2</dc:creator>
  <dc:description/>
  <dc:language>en-US</dc:language>
  <cp:lastModifiedBy>DariaChonyak</cp:lastModifiedBy>
  <dcterms:modified xsi:type="dcterms:W3CDTF">2019-01-17T08:18:53Z</dcterms:modified>
  <cp:revision>7</cp:revision>
  <dc:subject/>
  <dc:title>Г. Воложин, остановка общественного транспорта по ул. Советская (возле магазина «Евроопт»), по состоянию на 14.01.2019 года</dc:title>
</cp:coreProperties>
</file>