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B73-A241-4F98-AE9C-4AE436F7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517-59FF-4030-BEBE-D4B0FAF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E69-F554-4A2F-837C-CBD738D6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1ED-A2D4-4558-BBB2-9EABAE83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50E-7EC8-4EE4-835B-9BC4319C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BEE-8682-49CE-BBB6-5B4EA2D0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205-28AF-4E1B-8AA2-792F364A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0F9-BA0E-4CDA-8834-22E3F8EF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CF1-97DE-4C25-9B1A-87DD8CF3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E4B-9CF0-44C5-80F9-DA96651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D83-04CD-4BFF-8793-EC795DF7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205-2AB4-4305-8D21-785E3D9E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8665-8037-4220-8C76-19770585E1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/01/201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 очищены от наледи пешеходные зоны на территории стоянки у кафе «Парк» в д.Шараи ООО «Ориентир-Интернациональ», не применяются противогололедные сре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User\Мои документы\Мониторинг\Придорожный сервис\Фото 22.01.19\DSC_0215.jpg"/>
          <p:cNvPicPr/>
          <p:nvPr/>
        </p:nvPicPr>
        <p:blipFill>
          <a:blip r:embed="rId1"/>
          <a:stretch/>
        </p:blipFill>
        <p:spPr>
          <a:xfrm>
            <a:off x="1403280" y="1600200"/>
            <a:ext cx="640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01.2019г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ритория рынка в г.Воложине не обработана противогололедными средствами, не расчищена от  нале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F:\Фото 24.01.19\102DICAM\DSCI312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26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очные пункты а.г.Раков, ул.Минская филиал КУП «Минскоблдорстрой»- ДРСУ №167, 22.01.2019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1640" y="1545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457200" y="2185920"/>
            <a:ext cx="4040280" cy="347976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4" descr=""/>
          <p:cNvPicPr/>
          <p:nvPr/>
        </p:nvPicPr>
        <p:blipFill>
          <a:blip r:embed="rId2"/>
          <a:stretch/>
        </p:blipFill>
        <p:spPr>
          <a:xfrm>
            <a:off x="4572000" y="2208240"/>
            <a:ext cx="4041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«Воложинская ЦРБ» общежитие ул.М.Горького,16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01.2019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ы от снега  пешеходная зон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ы от снега  и наледи ступеньки и крыльцо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2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А №123 Воложин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а от наледи пешеходная зона  18.01.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6" descr="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чистки 19.01.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7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 «Галактика-Трейд-Плюс», магазин «Витязь» г.Волож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а от наледи пешеходная зона, частично замусорена 18.01.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6" descr="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ена от наледи и мусора 19.01.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7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СК «Молодость» территория жилого дома по ул.Ленина г.п.Ивенец 23.01.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а от наледи пешеходная зона, не очищена от твердых отходов  у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Судниковский» жилой дом ул.Молодежная,9 д.Судники, 23.01.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а от снега и  наледи пешеходная зона, не очищена у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6:25:15Z</dcterms:created>
  <dc:creator>Пользователь</dc:creator>
  <dc:description/>
  <dc:language>en-US</dc:language>
  <cp:lastModifiedBy>DariaChonyak</cp:lastModifiedBy>
  <cp:lastPrinted>2019-01-25T05:25:45Z</cp:lastPrinted>
  <dcterms:modified xsi:type="dcterms:W3CDTF">2019-01-25T06:54:02Z</dcterms:modified>
  <cp:revision>31</cp:revision>
  <dc:subject/>
  <dc:title>Слайд 1</dc:title>
</cp:coreProperties>
</file>